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A734-37B1-471F-89E2-E13DBD284D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AFFA-C243-4307-A2F1-1534B5400B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E5D6-F5CD-4E00-89D2-B978093539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2D98-79CE-4F15-97DE-4D68BC0835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E3C2-C3F7-488E-9715-84BCA32B54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9948-2C00-4C86-9F1F-C82FDFAFDE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4A9B-1C3D-4614-B874-4FE35F85A6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B19E-2A63-4E76-A1AF-61E8FD22DA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1822-8F77-4945-B5B3-A1DD23DFDE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F5BB-A550-4A68-A042-1598F70319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1614-FBC7-44FF-ACBA-D6EFB8CA3C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9895-EEDF-40A2-A2C3-A29C502330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5B31-794E-469D-8756-1EBAB81719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9CFC-FD51-44FA-8BE8-D59DFD2AE8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388C-3FE8-4BAF-8C59-99A14F1647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2E34-95EB-442A-82CC-26CC0436B8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4149-6CC4-4C13-95F4-86171F5B8F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7185-B937-4AD7-A4E1-275B82BE10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34E3-C075-4737-BA2F-BFEEA577D8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C87D-2431-4792-BFF8-A36E80AC8A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76B1-9AFD-49D2-BF1F-A187BB7539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13AE-C117-45D1-995B-5DD33E3D8D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9A71-7577-4F23-AEE8-860F6C3E39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F10D-A329-4A71-B613-7ED7C86FE4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1151-BD12-4F43-B023-52C3D3B51E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B05E-A223-4C03-95AD-82FE1351E7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C4F8-6B38-4B76-929D-2716C1BB0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F000-FBC9-4F63-AFC3-4918412D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0C7F-260E-4F9B-B3F9-848162E42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0C72-8162-4728-8952-5987B3215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4048-A940-4BCA-B743-1534D618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3F97-2C55-4752-9926-D551F467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625D-CE4D-492B-A66E-66CE2A50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62E5-F36E-4F33-A781-3DD62CFF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A267-902F-4F26-968F-2CCCD540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2332-7AA8-4B90-AC08-D05E28A6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C654-BABC-4831-951C-B566613C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8712-8F96-4670-A45F-C1A463BD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81AB-5738-4F21-8A82-8505C94521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r.foto.radikal.ru/0703/4c/62848a88ea59.png" TargetMode="External"/><Relationship Id="rId2" Type="http://schemas.openxmlformats.org/officeDocument/2006/relationships/hyperlink" Target="http://s60.radikal.ru/i167/0905/df/b0f13a866051.png" TargetMode="External"/><Relationship Id="rId3" Type="http://schemas.openxmlformats.org/officeDocument/2006/relationships/hyperlink" Target="http://s43.radikal.ru/i100/1001/20/5b7dede1e7dc.png" TargetMode="External"/><Relationship Id="rId4" Type="http://schemas.openxmlformats.org/officeDocument/2006/relationships/hyperlink" Target="http://s59.radikal.ru/i165/1010/56/331c0aa3caaf.png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пустыня"/>
          <p:cNvPicPr/>
          <p:nvPr/>
        </p:nvPicPr>
        <p:blipFill>
          <a:blip r:embed="rId1"/>
          <a:stretch/>
        </p:blipFill>
        <p:spPr>
          <a:xfrm>
            <a:off x="-252360" y="-171360"/>
            <a:ext cx="9396360" cy="702936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5">
            <a:hlinkClick r:id="" action="ppaction://hlinkshowjump?jump=nextslide"/>
          </p:cNvPr>
          <p:cNvSpPr/>
          <p:nvPr/>
        </p:nvSpPr>
        <p:spPr>
          <a:xfrm>
            <a:off x="8244000" y="5805360"/>
            <a:ext cx="576000" cy="792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792360"/>
              <a:gd name="textAreaBottom" fmla="*/ 755280 h 792360"/>
            </a:gdLst>
            <a:ahLst/>
            <a:rect l="textAreaLeft" t="textAreaTop" r="textAreaRight" b="textAreaBottom"/>
            <a:pathLst>
              <a:path w="21600" h="29708">
                <a:moveTo>
                  <a:pt x="0" y="0"/>
                </a:moveTo>
                <a:lnTo>
                  <a:pt x="21600" y="0"/>
                </a:lnTo>
                <a:lnTo>
                  <a:pt x="21600" y="29708"/>
                </a:lnTo>
                <a:lnTo>
                  <a:pt x="0" y="29708"/>
                </a:lnTo>
                <a:close/>
              </a:path>
              <a:path fill="lightenLess" w="21600" h="29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8">
                <a:moveTo>
                  <a:pt x="21600" y="0"/>
                </a:moveTo>
                <a:lnTo>
                  <a:pt x="21600" y="29708"/>
                </a:lnTo>
                <a:lnTo>
                  <a:pt x="20200" y="28308"/>
                </a:lnTo>
                <a:lnTo>
                  <a:pt x="20200" y="1400"/>
                </a:lnTo>
                <a:close/>
              </a:path>
              <a:path fill="darkenLess" w="21600" h="29708">
                <a:moveTo>
                  <a:pt x="21600" y="29708"/>
                </a:moveTo>
                <a:lnTo>
                  <a:pt x="0" y="29708"/>
                </a:lnTo>
                <a:lnTo>
                  <a:pt x="1400" y="28308"/>
                </a:lnTo>
                <a:lnTo>
                  <a:pt x="20200" y="28308"/>
                </a:lnTo>
                <a:close/>
              </a:path>
              <a:path fill="lighten" w="21600" h="29708">
                <a:moveTo>
                  <a:pt x="0" y="29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8"/>
                </a:lnTo>
                <a:close/>
              </a:path>
              <a:path fill="darken" w="21600" h="29708">
                <a:moveTo>
                  <a:pt x="3794" y="7848"/>
                </a:moveTo>
                <a:lnTo>
                  <a:pt x="17806" y="14854"/>
                </a:lnTo>
                <a:lnTo>
                  <a:pt x="3794" y="218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>
            <a:hlinkClick r:id="" action="ppaction://hlinkshowjump?jump=lastslide"/>
          </p:cNvPr>
          <p:cNvSpPr/>
          <p:nvPr/>
        </p:nvSpPr>
        <p:spPr>
          <a:xfrm>
            <a:off x="6804000" y="5950080"/>
            <a:ext cx="936720" cy="647640"/>
          </a:xfrm>
          <a:custGeom>
            <a:avLst/>
            <a:gdLst>
              <a:gd name="textAreaLeft" fmla="*/ 41760 w 936720"/>
              <a:gd name="textAreaRight" fmla="*/ 894960 w 936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236" h="21600">
                <a:moveTo>
                  <a:pt x="0" y="0"/>
                </a:moveTo>
                <a:lnTo>
                  <a:pt x="31236" y="0"/>
                </a:lnTo>
                <a:lnTo>
                  <a:pt x="31236" y="21600"/>
                </a:lnTo>
                <a:lnTo>
                  <a:pt x="0" y="21600"/>
                </a:lnTo>
                <a:close/>
              </a:path>
              <a:path fill="lightenLess" w="31236" h="21600">
                <a:moveTo>
                  <a:pt x="0" y="0"/>
                </a:moveTo>
                <a:lnTo>
                  <a:pt x="31236" y="0"/>
                </a:lnTo>
                <a:lnTo>
                  <a:pt x="29836" y="1400"/>
                </a:lnTo>
                <a:lnTo>
                  <a:pt x="1400" y="1400"/>
                </a:lnTo>
                <a:close/>
              </a:path>
              <a:path fill="darken" w="31236" h="21600">
                <a:moveTo>
                  <a:pt x="31236" y="0"/>
                </a:moveTo>
                <a:lnTo>
                  <a:pt x="31236" y="21600"/>
                </a:lnTo>
                <a:lnTo>
                  <a:pt x="29836" y="20200"/>
                </a:lnTo>
                <a:lnTo>
                  <a:pt x="29836" y="1400"/>
                </a:lnTo>
                <a:close/>
              </a:path>
              <a:path fill="darkenLess" w="31236" h="21600">
                <a:moveTo>
                  <a:pt x="31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36" y="20200"/>
                </a:lnTo>
                <a:close/>
              </a:path>
              <a:path fill="lighten" w="31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36" h="21600">
                <a:moveTo>
                  <a:pt x="156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1236" h="21600">
                <a:moveTo>
                  <a:pt x="16723" y="14281"/>
                </a:moveTo>
                <a:lnTo>
                  <a:pt x="16723" y="12323"/>
                </a:lnTo>
                <a:cubicBezTo>
                  <a:pt x="16723" y="11496"/>
                  <a:pt x="17054" y="10800"/>
                  <a:pt x="17655" y="10800"/>
                </a:cubicBezTo>
                <a:cubicBezTo>
                  <a:pt x="18786" y="10800"/>
                  <a:pt x="19683" y="9434"/>
                  <a:pt x="19683" y="7849"/>
                </a:cubicBezTo>
                <a:cubicBezTo>
                  <a:pt x="19683" y="5534"/>
                  <a:pt x="17829" y="3794"/>
                  <a:pt x="15618" y="3794"/>
                </a:cubicBezTo>
                <a:cubicBezTo>
                  <a:pt x="13407" y="3794"/>
                  <a:pt x="11736" y="5534"/>
                  <a:pt x="11736" y="7849"/>
                </a:cubicBezTo>
                <a:lnTo>
                  <a:pt x="13590" y="7849"/>
                </a:lnTo>
                <a:cubicBezTo>
                  <a:pt x="13590" y="6709"/>
                  <a:pt x="14513" y="5821"/>
                  <a:pt x="15618" y="5821"/>
                </a:cubicBezTo>
                <a:cubicBezTo>
                  <a:pt x="16723" y="5821"/>
                  <a:pt x="17655" y="6709"/>
                  <a:pt x="17655" y="7849"/>
                </a:cubicBezTo>
                <a:cubicBezTo>
                  <a:pt x="17655" y="8589"/>
                  <a:pt x="17185" y="9320"/>
                  <a:pt x="16723" y="9320"/>
                </a:cubicBezTo>
                <a:cubicBezTo>
                  <a:pt x="15618" y="9320"/>
                  <a:pt x="14513" y="10800"/>
                  <a:pt x="14513" y="12323"/>
                </a:cubicBezTo>
                <a:lnTo>
                  <a:pt x="14513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4284720" y="333360"/>
            <a:ext cx="4170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Игра – тренаж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 математ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971640" y="1557360"/>
            <a:ext cx="77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Умникам и умницам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0" y="5516640"/>
            <a:ext cx="39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: Кленова Т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У СОШ №152 г. Моск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278" name="Овал 14"/>
          <p:cNvSpPr/>
          <p:nvPr/>
        </p:nvSpPr>
        <p:spPr>
          <a:xfrm rot="338400">
            <a:off x="4780080" y="894960"/>
            <a:ext cx="1015920" cy="5475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280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283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286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289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292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33"/>
          <p:cNvSpPr/>
          <p:nvPr/>
        </p:nvSpPr>
        <p:spPr>
          <a:xfrm>
            <a:off x="1332000" y="335772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J0214098.WAV" descr=""/>
          <p:cNvPicPr/>
          <p:nvPr/>
        </p:nvPicPr>
        <p:blipFill>
          <a:blip r:embed="rId9"/>
          <a:stretch/>
        </p:blipFill>
        <p:spPr>
          <a:xfrm>
            <a:off x="9396360" y="3284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98" name="TextBox 34"/>
          <p:cNvSpPr/>
          <p:nvPr/>
        </p:nvSpPr>
        <p:spPr>
          <a:xfrm>
            <a:off x="752688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7" dur="indefinite" restart="never" nodeType="tmRoot">
          <p:childTnLst>
            <p:seq>
              <p:cTn id="818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819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23699E-006 C 0.0033 -0.01248 0.01128 -0.02035 0.01476 -0.03283 C 0.01562 -0.03561 0.01545 -0.03884 0.01649 -0.04162 C 0.01823 -0.04624 0.02309 -0.0548 0.02309 -0.0548 C 0.02604 -0.06705 0.02986 -0.08069 0.03941 -0.08532 C 0.04045 -0.0874 0.04097 -0.0904 0.04271 -0.09179 C 0.04548 -0.0941 0.06042 -0.10104 0.06406 -0.10266 C 0.07656 -0.1015 0.08819 -0.10127 0.1 -0.09618 C 0.10972 -0.0837 0.09983 -0.09433 0.11163 -0.0874 C 0.13073 -0.0763 0.09948 -0.0904 0.12309 -0.07861 C 0.13108 -0.07468 0.13958 -0.07191 0.14757 -0.06774 C 0.15451 -0.06404 0.16059 -0.05896 0.16736 -0.0548 C 0.17048 -0.05295 0.17708 -0.0504 0.17708 -0.0504 C 0.18212 -0.0437 0.18733 -0.04254 0.19184 -0.03514 C 0.1993 -0.02312 0.19167 -0.03376 0.19687 -0.02196 C 0.19948 -0.01595 0.20208 -0.00994 0.20503 -0.00439 C 0.20642 -0.00185 0.20868 -0.00046 0.20989 0.00208 C 0.2125 0.00763 0.21371 0.01434 0.21649 0.01965 C 0.21753 0.02174 0.21875 0.02405 0.21979 0.02613 C 0.22083 0.03122 0.22153 0.03653 0.22309 0.04139 C 0.22378 0.0437 0.22569 0.04532 0.22639 0.04786 C 0.22795 0.05364 0.22951 0.06543 0.22951 0.06543 C 0.22899 0.07931 0.22969 0.09318 0.22795 0.10682 C 0.22656 0.11861 0.21337 0.13202 0.2066 0.13734 C 0.2 0.14937 0.1993 0.14451 0.19184 0.15283 C 0.18507 0.16023 0.17917 0.17087 0.17066 0.17457 C 0.15677 0.1926 0.13507 0.20763 0.11649 0.21596 C 0.11128 0.23006 0.11111 0.22266 0.1033 0.23122 C 0.09305 0.24254 0.08403 0.25179 0.07222 0.25965 C 0.07066 0.26197 0.06927 0.26474 0.06736 0.26636 C 0.06597 0.26775 0.06371 0.26705 0.06233 0.26844 C 0.06076 0.27006 0.06059 0.2733 0.05903 0.27491 C 0.0566 0.27769 0.05364 0.27931 0.05087 0.28162 C 0.0434 0.29572 0.04097 0.30035 0.03455 0.31191 C 0.03281 0.31491 0.02951 0.32093 0.02951 0.32093 C 0.02743 0.33272 0.02292 0.33526 0.01805 0.34474 C 0.01701 0.34983 0.01614 0.35515 0.01476 0.36023 C 0.01354 0.36463 0.01111 0.36856 0.00989 0.37318 C 0.0059 0.38821 0.00451 0.39676 -0.00156 0.41041 C -0.00469 0.44439 -0.00677 0.47815 0.0066 0.50867 C 0.00781 0.51468 0.00885 0.52509 0.01163 0.53041 C 0.01285 0.53295 0.0151 0.53434 0.01649 0.53688 C 0.0191 0.54174 0.02066 0.54752 0.02309 0.55214 C 0.0243 0.55723 0.02621 0.56763 0.02951 0.57202 C 0.04288 0.58983 0.0684 0.60116 0.08698 0.60463 C 0.09514 0.60393 0.10364 0.60555 0.11163 0.60254 C 0.11389 0.60162 0.11354 0.59653 0.11476 0.59376 C 0.11858 0.58567 0.12205 0.57711 0.12795 0.57202 C 0.13368 0.54752 0.15816 0.53619 0.17378 0.52601 C 0.18802 0.51653 0.17621 0.52162 0.18854 0.51723 C 0.19913 0.5089 0.21042 0.50266 0.22135 0.49549 C 0.22691 0.49179 0.23351 0.49202 0.23941 0.48902 C 0.24878 0.48439 0.2559 0.47885 0.26562 0.47584 C 0.28437 0.45942 0.3217 0.45965 0.34114 0.45827 C 0.35451 0.45965 0.36337 0.46081 0.37552 0.46497 C 0.38437 0.47283 0.38889 0.47746 0.39514 0.48902 C 0.39774 0.50197 0.39913 0.51538 0.40173 0.52833 C 0.40069 0.53711 0.39965 0.54567 0.39844 0.55445 C 0.39792 0.55815 0.39826 0.56208 0.39687 0.56532 C 0.39427 0.57133 0.38489 0.57226 0.38038 0.57411 C 0.37552 0.57341 0.37048 0.57341 0.36562 0.57202 C 0.36319 0.57133 0.36146 0.56786 0.35903 0.56763 C 0.35469 0.56671 0.34253 0.57272 0.35417 0.56763 C 0.35729 0.55584 0.3526 0.54659 0.3526 0.5348 C 0.3526 0.53387 0.35364 0.53619 0.35417 0.53688 E">
                                      <p:cBhvr>
                                        <p:cTn id="824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6" dur="4745" fill="hold"/>
                                        <p:tgtEl>
                                          <p:spTgt spid="2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7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828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1" dur="1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32" dur="1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33" dur="1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6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8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851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4" dur="1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55" dur="1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56" dur="1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5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5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86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9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3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874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7" dur="1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78" dur="1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79" dur="1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8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1000"/>
                            </p:stCondLst>
                            <p:childTnLst>
                              <p:par>
                                <p:cTn id="89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2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6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897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0" dur="1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01" dur="1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02" dur="1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000"/>
                            </p:stCondLst>
                            <p:childTnLst>
                              <p:par>
                                <p:cTn id="91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5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305" name="Овал 14"/>
          <p:cNvSpPr/>
          <p:nvPr/>
        </p:nvSpPr>
        <p:spPr>
          <a:xfrm rot="338400">
            <a:off x="4785840" y="766800"/>
            <a:ext cx="1016280" cy="676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307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310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Группа 27"/>
          <p:cNvGrpSpPr/>
          <p:nvPr/>
        </p:nvGrpSpPr>
        <p:grpSpPr>
          <a:xfrm>
            <a:off x="6767640" y="4221000"/>
            <a:ext cx="2376360" cy="1224000"/>
            <a:chOff x="6767640" y="4221000"/>
            <a:chExt cx="2376360" cy="1224000"/>
          </a:xfrm>
        </p:grpSpPr>
        <p:pic>
          <p:nvPicPr>
            <p:cNvPr id="313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34364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Овал 19"/>
            <p:cNvSpPr/>
            <p:nvPr/>
          </p:nvSpPr>
          <p:spPr>
            <a:xfrm>
              <a:off x="676764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316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319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9" dur="indefinite" restart="never" nodeType="tmRoot">
          <p:childTnLst>
            <p:seq>
              <p:cTn id="920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921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3.23699E-006 C 0.00138 -0.01826 -0.0007 -0.04462 0.00659 -0.06127 C 0.00781 -0.06381 0.01006 -0.0652 0.01145 -0.06774 C 0.01284 -0.07052 0.01336 -0.07376 0.01475 -0.07653 C 0.02083 -0.08786 0.03003 -0.09225 0.0394 -0.09618 C 0.04444 -0.09826 0.05416 -0.10266 0.05416 -0.10266 C 0.07187 -0.12069 0.10989 -0.11006 0.12621 -0.10936 C 0.13281 -0.10705 0.13663 -0.10474 0.1427 -0.10058 C 0.14722 -0.09757 0.15069 -0.0978 0.15572 -0.09618 C 0.16267 -0.09387 0.16857 -0.08832 0.17534 -0.08532 C 0.18802 -0.07491 0.20295 -0.06867 0.21475 -0.05688 C 0.21666 -0.05503 0.2177 -0.05202 0.21961 -0.0504 C 0.22361 -0.04693 0.22864 -0.04647 0.23281 -0.0437 C 0.23645 -0.04115 0.24427 -0.03468 0.24756 -0.03075 C 0.25624 -0.02035 0.26076 -0.01063 0.26718 0.00208 C 0.28333 0.03376 0.26631 0.00971 0.27864 0.02613 C 0.28107 0.03815 0.28333 0.05272 0.28854 0.06312 C 0.28975 0.0874 0.29392 0.10844 0.28038 0.12648 C 0.2776 0.14058 0.26874 0.14983 0.26232 0.16139 C 0.25399 0.17642 0.25173 0.19191 0.24756 0.20948 C 0.24808 0.22197 0.24826 0.23445 0.24913 0.24671 C 0.25121 0.27468 0.25086 0.23815 0.25086 0.25757 E">
                                      <p:cBhvr>
                                        <p:cTn id="926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8" dur="4745" fill="hold"/>
                                        <p:tgtEl>
                                          <p:spTgt spid="3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9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930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3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34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35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3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000"/>
                            </p:stCondLst>
                            <p:childTnLst>
                              <p:par>
                                <p:cTn id="94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8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2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953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6" dur="1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57" dur="1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58" dur="1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1000"/>
                            </p:stCondLst>
                            <p:childTnLst>
                              <p:par>
                                <p:cTn id="97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1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5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976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9" dur="1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80" dur="1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81" dur="1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4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8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999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2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03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04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0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0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0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0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93960" y="447480"/>
            <a:ext cx="1369800" cy="7268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332" name="Овал 14"/>
          <p:cNvSpPr/>
          <p:nvPr/>
        </p:nvSpPr>
        <p:spPr>
          <a:xfrm rot="338400">
            <a:off x="4804920" y="617040"/>
            <a:ext cx="1015920" cy="573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7+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334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Группа 29"/>
          <p:cNvGrpSpPr/>
          <p:nvPr/>
        </p:nvGrpSpPr>
        <p:grpSpPr>
          <a:xfrm>
            <a:off x="1763640" y="3789360"/>
            <a:ext cx="1368360" cy="1368360"/>
            <a:chOff x="1763640" y="3789360"/>
            <a:chExt cx="1368360" cy="1368360"/>
          </a:xfrm>
        </p:grpSpPr>
        <p:pic>
          <p:nvPicPr>
            <p:cNvPr id="337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763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Овал 17"/>
            <p:cNvSpPr/>
            <p:nvPr/>
          </p:nvSpPr>
          <p:spPr>
            <a:xfrm>
              <a:off x="1763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Группа 27"/>
          <p:cNvGrpSpPr/>
          <p:nvPr/>
        </p:nvGrpSpPr>
        <p:grpSpPr>
          <a:xfrm>
            <a:off x="7093080" y="4292640"/>
            <a:ext cx="2376360" cy="1224000"/>
            <a:chOff x="7093080" y="4292640"/>
            <a:chExt cx="2376360" cy="1224000"/>
          </a:xfrm>
        </p:grpSpPr>
        <p:pic>
          <p:nvPicPr>
            <p:cNvPr id="340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66908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Овал 19"/>
            <p:cNvSpPr/>
            <p:nvPr/>
          </p:nvSpPr>
          <p:spPr>
            <a:xfrm>
              <a:off x="709308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Группа 26"/>
          <p:cNvGrpSpPr/>
          <p:nvPr/>
        </p:nvGrpSpPr>
        <p:grpSpPr>
          <a:xfrm>
            <a:off x="3564000" y="5445000"/>
            <a:ext cx="2709720" cy="1584360"/>
            <a:chOff x="3564000" y="5445000"/>
            <a:chExt cx="2709720" cy="1584360"/>
          </a:xfrm>
        </p:grpSpPr>
        <p:pic>
          <p:nvPicPr>
            <p:cNvPr id="343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98920" y="5445000"/>
              <a:ext cx="177480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Овал 20"/>
            <p:cNvSpPr/>
            <p:nvPr/>
          </p:nvSpPr>
          <p:spPr>
            <a:xfrm>
              <a:off x="3564000" y="602136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346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32"/>
          <p:cNvSpPr/>
          <p:nvPr/>
        </p:nvSpPr>
        <p:spPr>
          <a:xfrm>
            <a:off x="7387920" y="234936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1" dur="indefinite" restart="never" nodeType="tmRoot">
          <p:childTnLst>
            <p:seq>
              <p:cTn id="1022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1023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142 0.13827 C 0.1309 0.1341 0.13021 0.12208 0.12812 0.11653 C 0.12448 0.10682 0.11944 0.10474 0.11337 0.09896 C 0.11146 0.09711 0.11041 0.09434 0.1085 0.09249 C 0.09843 0.08301 0.08767 0.07931 0.07569 0.07723 C 0.0533 0.07838 0.03871 0.08 0.01823 0.0837 C 0.00937 0.08786 -0.00018 0.08879 -0.00955 0.0904 C -0.03785 0.10243 -0.0658 0.11792 -0.0915 0.13827 C -0.09861 0.14405 -0.10573 0.15006 -0.11285 0.15584 C -0.11545 0.15792 -0.11702 0.16208 -0.11945 0.16462 C -0.12188 0.16717 -0.12483 0.16902 -0.12761 0.1711 C -0.13681 0.18913 -0.15243 0.19884 -0.16198 0.21688 C -0.16545 0.22335 -0.16858 0.23006 -0.17188 0.23653 C -0.17292 0.23884 -0.17518 0.24324 -0.17518 0.24347 C -0.17882 0.26312 -0.17413 0.24139 -0.18004 0.2585 C -0.1908 0.28925 -0.18229 0.27145 -0.18993 0.28671 C -0.19445 0.30775 -0.19688 0.32093 -0.19809 0.34358 C -0.19775 0.35607 -0.19288 0.41988 -0.19653 0.43954 C -0.1974 0.44393 -0.21094 0.4548 -0.21129 0.45503 C -0.21459 0.45642 -0.22101 0.45919 -0.22101 0.45942 C -0.23091 0.46798 -0.23403 0.46936 -0.24566 0.47237 C -0.25417 0.48069 -0.25868 0.47884 -0.26702 0.48555 C -0.28091 0.49688 -0.2717 0.49225 -0.28177 0.49642 C -0.28334 0.4978 -0.28525 0.49896 -0.28663 0.50081 C -0.28802 0.50266 -0.28993 0.50728 -0.28993 0.50751 E">
                                      <p:cBhvr>
                                        <p:cTn id="1028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0" dur="4745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1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1032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5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36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37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3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4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0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4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1055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8" dur="1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59" dur="1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60" dur="1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3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7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1078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1" dur="1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82" dur="1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83" dur="1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6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0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1101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4" dur="1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05" dur="1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06" dur="1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9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359" name="Овал 14"/>
          <p:cNvSpPr/>
          <p:nvPr/>
        </p:nvSpPr>
        <p:spPr>
          <a:xfrm rot="338400">
            <a:off x="4780080" y="894960"/>
            <a:ext cx="1015920" cy="5475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9+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361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364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367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370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373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33"/>
          <p:cNvSpPr/>
          <p:nvPr/>
        </p:nvSpPr>
        <p:spPr>
          <a:xfrm>
            <a:off x="1332000" y="335772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J0214098.WAV" descr=""/>
          <p:cNvPicPr/>
          <p:nvPr/>
        </p:nvPicPr>
        <p:blipFill>
          <a:blip r:embed="rId9"/>
          <a:stretch/>
        </p:blipFill>
        <p:spPr>
          <a:xfrm>
            <a:off x="9396360" y="3284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79" name="TextBox 34"/>
          <p:cNvSpPr/>
          <p:nvPr/>
        </p:nvSpPr>
        <p:spPr>
          <a:xfrm>
            <a:off x="752688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3" dur="indefinite" restart="never" nodeType="tmRoot">
          <p:childTnLst>
            <p:seq>
              <p:cTn id="1124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1125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23699E-006 C 0.0033 -0.01248 0.01128 -0.02035 0.01476 -0.03283 C 0.01562 -0.03561 0.01545 -0.03884 0.01649 -0.04162 C 0.01823 -0.04624 0.02309 -0.0548 0.02309 -0.0548 C 0.02604 -0.06705 0.02986 -0.08069 0.03941 -0.08532 C 0.04045 -0.0874 0.04097 -0.0904 0.04271 -0.09179 C 0.04548 -0.0941 0.06042 -0.10104 0.06406 -0.10266 C 0.07656 -0.1015 0.08819 -0.10127 0.1 -0.09618 C 0.10972 -0.0837 0.09983 -0.09433 0.11163 -0.0874 C 0.13073 -0.0763 0.09948 -0.0904 0.12309 -0.07861 C 0.13108 -0.07468 0.13958 -0.07191 0.14757 -0.06774 C 0.15451 -0.06404 0.16059 -0.05896 0.16736 -0.0548 C 0.17048 -0.05295 0.17708 -0.0504 0.17708 -0.0504 C 0.18212 -0.0437 0.18733 -0.04254 0.19184 -0.03514 C 0.1993 -0.02312 0.19167 -0.03376 0.19687 -0.02196 C 0.19948 -0.01595 0.20208 -0.00994 0.20503 -0.00439 C 0.20642 -0.00185 0.20868 -0.00046 0.20989 0.00208 C 0.2125 0.00763 0.21371 0.01434 0.21649 0.01965 C 0.21753 0.02174 0.21875 0.02405 0.21979 0.02613 C 0.22083 0.03122 0.22153 0.03653 0.22309 0.04139 C 0.22378 0.0437 0.22569 0.04532 0.22639 0.04786 C 0.22795 0.05364 0.22951 0.06543 0.22951 0.06543 C 0.22899 0.07931 0.22969 0.09318 0.22795 0.10682 C 0.22656 0.11861 0.21337 0.13202 0.2066 0.13734 C 0.2 0.14937 0.1993 0.14451 0.19184 0.15283 C 0.18507 0.16023 0.17917 0.17087 0.17066 0.17457 C 0.15677 0.1926 0.13507 0.20763 0.11649 0.21596 C 0.11128 0.23006 0.11111 0.22266 0.1033 0.23122 C 0.09305 0.24254 0.08403 0.25179 0.07222 0.25965 C 0.07066 0.26197 0.06927 0.26474 0.06736 0.26636 C 0.06597 0.26775 0.06371 0.26705 0.06233 0.26844 C 0.06076 0.27006 0.06059 0.2733 0.05903 0.27491 C 0.0566 0.27769 0.05364 0.27931 0.05087 0.28162 C 0.0434 0.29572 0.04097 0.30035 0.03455 0.31191 C 0.03281 0.31491 0.02951 0.32093 0.02951 0.32093 C 0.02743 0.33272 0.02292 0.33526 0.01805 0.34474 C 0.01701 0.34983 0.01614 0.35515 0.01476 0.36023 C 0.01354 0.36463 0.01111 0.36856 0.00989 0.37318 C 0.0059 0.38821 0.00451 0.39676 -0.00156 0.41041 C -0.00469 0.44439 -0.00677 0.47815 0.0066 0.50867 C 0.00781 0.51468 0.00885 0.52509 0.01163 0.53041 C 0.01285 0.53295 0.0151 0.53434 0.01649 0.53688 C 0.0191 0.54174 0.02066 0.54752 0.02309 0.55214 C 0.0243 0.55723 0.02621 0.56763 0.02951 0.57202 C 0.04288 0.58983 0.0684 0.60116 0.08698 0.60463 C 0.09514 0.60393 0.10364 0.60555 0.11163 0.60254 C 0.11389 0.60162 0.11354 0.59653 0.11476 0.59376 C 0.11858 0.58567 0.12205 0.57711 0.12795 0.57202 C 0.13368 0.54752 0.15816 0.53619 0.17378 0.52601 C 0.18802 0.51653 0.17621 0.52162 0.18854 0.51723 C 0.19913 0.5089 0.21042 0.50266 0.22135 0.49549 C 0.22691 0.49179 0.23351 0.49202 0.23941 0.48902 C 0.24878 0.48439 0.2559 0.47885 0.26562 0.47584 C 0.28437 0.45942 0.3217 0.45965 0.34114 0.45827 C 0.35451 0.45965 0.36337 0.46081 0.37552 0.46497 C 0.38437 0.47283 0.38889 0.47746 0.39514 0.48902 C 0.39774 0.50197 0.39913 0.51538 0.40173 0.52833 C 0.40069 0.53711 0.39965 0.54567 0.39844 0.55445 C 0.39792 0.55815 0.39826 0.56208 0.39687 0.56532 C 0.39427 0.57133 0.38489 0.57226 0.38038 0.57411 C 0.37552 0.57341 0.37048 0.57341 0.36562 0.57202 C 0.36319 0.57133 0.36146 0.56786 0.35903 0.56763 C 0.35469 0.56671 0.34253 0.57272 0.35417 0.56763 C 0.35729 0.55584 0.3526 0.54659 0.3526 0.5348 C 0.3526 0.53387 0.35364 0.53619 0.35417 0.53688 E">
                                      <p:cBhvr>
                                        <p:cTn id="1130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2" dur="4745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3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1134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7" dur="1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38" dur="1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39" dur="1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9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2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4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6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1157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0" dur="1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61" dur="1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62" dur="1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5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9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1180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3" dur="1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84" dur="1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85" dur="1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8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2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1203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6" dur="1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07" dur="1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08" dur="1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1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386" name="Овал 14"/>
          <p:cNvSpPr/>
          <p:nvPr/>
        </p:nvSpPr>
        <p:spPr>
          <a:xfrm rot="338400">
            <a:off x="4782600" y="844200"/>
            <a:ext cx="1016280" cy="598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Группа 24"/>
          <p:cNvGrpSpPr/>
          <p:nvPr/>
        </p:nvGrpSpPr>
        <p:grpSpPr>
          <a:xfrm>
            <a:off x="6732720" y="2421000"/>
            <a:ext cx="2411280" cy="1285920"/>
            <a:chOff x="6732720" y="2421000"/>
            <a:chExt cx="2411280" cy="1285920"/>
          </a:xfrm>
        </p:grpSpPr>
        <p:pic>
          <p:nvPicPr>
            <p:cNvPr id="388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2100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Овал 15"/>
            <p:cNvSpPr/>
            <p:nvPr/>
          </p:nvSpPr>
          <p:spPr>
            <a:xfrm>
              <a:off x="7956720" y="321336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391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394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397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Группа 28"/>
          <p:cNvGrpSpPr/>
          <p:nvPr/>
        </p:nvGrpSpPr>
        <p:grpSpPr>
          <a:xfrm>
            <a:off x="0" y="5772240"/>
            <a:ext cx="1908000" cy="1085760"/>
            <a:chOff x="0" y="5772240"/>
            <a:chExt cx="1908000" cy="1085760"/>
          </a:xfrm>
        </p:grpSpPr>
        <p:pic>
          <p:nvPicPr>
            <p:cNvPr id="400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77224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Овал 21"/>
            <p:cNvSpPr/>
            <p:nvPr/>
          </p:nvSpPr>
          <p:spPr>
            <a:xfrm>
              <a:off x="0" y="627552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33"/>
          <p:cNvSpPr/>
          <p:nvPr/>
        </p:nvSpPr>
        <p:spPr>
          <a:xfrm>
            <a:off x="1332000" y="321300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5" dur="indefinite" restart="never" nodeType="tmRoot">
          <p:childTnLst>
            <p:seq>
              <p:cTn id="1226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1227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0" dur="1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31" dur="1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32" dur="1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5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9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1250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3" dur="1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54" dur="1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55" dur="1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5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5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8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2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1273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6" dur="1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77" dur="1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78" dur="1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1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5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1296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9" dur="1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00" dur="1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01" dur="1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0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0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0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0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4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8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1319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6185E-006 C 0.004 -0.01572 0.00122 -0.00925 0.00643 -0.01965 C 0.01007 -0.03537 0.00677 -0.03029 0.01459 -0.03722 C 0.02709 -0.05896 0.0342 -0.06034 0.05382 -0.06335 C 0.06164 -0.06266 0.06945 -0.06266 0.07691 -0.06104 C 0.0849 -0.05942 0.08941 -0.04948 0.09497 -0.0437 C 0.09844 -0.04023 0.10243 -0.03884 0.10643 -0.03722 C 0.11007 -0.03399 0.11493 -0.0326 0.11806 -0.02844 C 0.12431 -0.02011 0.12552 -0.00231 0.13108 0.00879 C 0.13247 0.05596 0.13664 0.11099 0.11962 0.15492 C 0.11771 0.16463 0.11545 0.17272 0.11146 0.18127 C 0.10782 0.19931 0.09271 0.21179 0.08195 0.22266 C 0.07674 0.22798 0.07223 0.23468 0.06719 0.24023 C 0.06042 0.24786 0.05434 0.2585 0.04584 0.26197 C 0.03473 0.27353 0.02101 0.28555 0.01302 0.30127 C 0.01007 0.3126 0.00747 0.31052 0.00973 0.32301 C 0.00695 0.34497 0.00695 0.35099 -4.16667E-006 0.36902 C -0.00191 0.37364 -0.00034 0.38081 -0.00347 0.38428 C -0.01059 0.39307 -0.02222 0.39492 -0.03125 0.39746 C -0.03941 0.40255 -0.04739 0.40231 -0.0559 0.40601 C -0.06718 0.41596 -0.05382 0.40532 -0.06718 0.41272 C -0.07656 0.41781 -0.08385 0.42451 -0.0934 0.42798 C -0.10711 0.44 -0.12239 0.45087 -0.13767 0.4585 C -0.15069 0.46497 -0.13854 0.45989 -0.14913 0.46937 C -0.1526 0.47237 -0.15677 0.47399 -0.16076 0.47584 C -0.17534 0.48301 -0.19288 0.48625 -0.20816 0.48902 C -0.22152 0.4948 -0.23611 0.49989 -0.24757 0.51099 C -0.24948 0.51283 -0.25052 0.51584 -0.25243 0.51746 C -0.25382 0.51885 -0.2559 0.51862 -0.25746 0.51954 C -0.25972 0.5207 -0.26198 0.52208 -0.26389 0.52393 C -0.2743 0.53411 -0.26371 0.52833 -0.27378 0.53272 C -0.2783 0.5496 -0.28281 0.55237 -0.29514 0.55677 C -0.31232 0.57226 -0.28611 0.54821 -0.30503 0.56763 C -0.31145 0.57434 -0.32031 0.57942 -0.32621 0.58729 C -0.3276 0.58914 -0.32795 0.59214 -0.32951 0.59376 C -0.33298 0.59746 -0.33732 0.59931 -0.34097 0.60255 C -0.34618 0.61272 -0.34444 0.61411 -0.35243 0.6222 C -0.3552 0.63283 -0.35885 0.64023 -0.36562 0.64625 C -0.36823 0.65711 -0.37395 0.66243 -0.38194 0.6659 C -0.38524 0.6689 -0.38802 0.67353 -0.39184 0.67468 C -0.39843 0.67677 -0.4026 0.67838 -0.40816 0.68347 C -0.41007 0.69087 -0.41145 0.69665 -0.41475 0.70312 C -0.41527 0.70682 -0.4158 0.71052 -0.41649 0.71399 C -0.41736 0.71838 -0.41979 0.72694 -0.41979 0.72694 C -0.42083 0.72486 -0.42291 0.72046 -0.42291 0.72046 E">
                                      <p:cBhvr>
                                        <p:cTn id="1324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6" dur="4745" fill="hold"/>
                                        <p:tgtEl>
                                          <p:spTgt spid="4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413" name="Овал 14"/>
          <p:cNvSpPr/>
          <p:nvPr/>
        </p:nvSpPr>
        <p:spPr>
          <a:xfrm rot="338400">
            <a:off x="4780080" y="894960"/>
            <a:ext cx="1015920" cy="5475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415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418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421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424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427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33"/>
          <p:cNvSpPr/>
          <p:nvPr/>
        </p:nvSpPr>
        <p:spPr>
          <a:xfrm>
            <a:off x="1332000" y="335772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J0214098.WAV" descr=""/>
          <p:cNvPicPr/>
          <p:nvPr/>
        </p:nvPicPr>
        <p:blipFill>
          <a:blip r:embed="rId9"/>
          <a:stretch/>
        </p:blipFill>
        <p:spPr>
          <a:xfrm>
            <a:off x="9396360" y="3284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33" name="TextBox 34"/>
          <p:cNvSpPr/>
          <p:nvPr/>
        </p:nvSpPr>
        <p:spPr>
          <a:xfrm>
            <a:off x="752688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7" dur="indefinite" restart="never" nodeType="tmRoot">
          <p:childTnLst>
            <p:seq>
              <p:cTn id="1328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1329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32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23699E-006 C 0.0033 -0.01248 0.01128 -0.02035 0.01476 -0.03283 C 0.01562 -0.03561 0.01545 -0.03884 0.01649 -0.04162 C 0.01823 -0.04624 0.02309 -0.0548 0.02309 -0.0548 C 0.02604 -0.06705 0.02986 -0.08069 0.03941 -0.08532 C 0.04045 -0.0874 0.04097 -0.0904 0.04271 -0.09179 C 0.04548 -0.0941 0.06042 -0.10104 0.06406 -0.10266 C 0.07656 -0.1015 0.08819 -0.10127 0.1 -0.09618 C 0.10972 -0.0837 0.09983 -0.09433 0.11163 -0.0874 C 0.13073 -0.0763 0.09948 -0.0904 0.12309 -0.07861 C 0.13108 -0.07468 0.13958 -0.07191 0.14757 -0.06774 C 0.15451 -0.06404 0.16059 -0.05896 0.16736 -0.0548 C 0.17048 -0.05295 0.17708 -0.0504 0.17708 -0.0504 C 0.18212 -0.0437 0.18733 -0.04254 0.19184 -0.03514 C 0.1993 -0.02312 0.19167 -0.03376 0.19687 -0.02196 C 0.19948 -0.01595 0.20208 -0.00994 0.20503 -0.00439 C 0.20642 -0.00185 0.20868 -0.00046 0.20989 0.00208 C 0.2125 0.00763 0.21371 0.01434 0.21649 0.01965 C 0.21753 0.02174 0.21875 0.02405 0.21979 0.02613 C 0.22083 0.03122 0.22153 0.03653 0.22309 0.04139 C 0.22378 0.0437 0.22569 0.04532 0.22639 0.04786 C 0.22795 0.05364 0.22951 0.06543 0.22951 0.06543 C 0.22899 0.07931 0.22969 0.09318 0.22795 0.10682 C 0.22656 0.11861 0.21337 0.13202 0.2066 0.13734 C 0.2 0.14937 0.1993 0.14451 0.19184 0.15283 C 0.18507 0.16023 0.17917 0.17087 0.17066 0.17457 C 0.15677 0.1926 0.13507 0.20763 0.11649 0.21596 C 0.11128 0.23006 0.11111 0.22266 0.1033 0.23122 C 0.09305 0.24254 0.08403 0.25179 0.07222 0.25965 C 0.07066 0.26197 0.06927 0.26474 0.06736 0.26636 C 0.06597 0.26775 0.06371 0.26705 0.06233 0.26844 C 0.06076 0.27006 0.06059 0.2733 0.05903 0.27491 C 0.0566 0.27769 0.05364 0.27931 0.05087 0.28162 C 0.0434 0.29572 0.04097 0.30035 0.03455 0.31191 C 0.03281 0.31491 0.02951 0.32093 0.02951 0.32093 C 0.02743 0.33272 0.02292 0.33526 0.01805 0.34474 C 0.01701 0.34983 0.01614 0.35515 0.01476 0.36023 C 0.01354 0.36463 0.01111 0.36856 0.00989 0.37318 C 0.0059 0.38821 0.00451 0.39676 -0.00156 0.41041 C -0.00469 0.44439 -0.00677 0.47815 0.0066 0.50867 C 0.00781 0.51468 0.00885 0.52509 0.01163 0.53041 C 0.01285 0.53295 0.0151 0.53434 0.01649 0.53688 C 0.0191 0.54174 0.02066 0.54752 0.02309 0.55214 C 0.0243 0.55723 0.02621 0.56763 0.02951 0.57202 C 0.04288 0.58983 0.0684 0.60116 0.08698 0.60463 C 0.09514 0.60393 0.10364 0.60555 0.11163 0.60254 C 0.11389 0.60162 0.11354 0.59653 0.11476 0.59376 C 0.11858 0.58567 0.12205 0.57711 0.12795 0.57202 C 0.13368 0.54752 0.15816 0.53619 0.17378 0.52601 C 0.18802 0.51653 0.17621 0.52162 0.18854 0.51723 C 0.19913 0.5089 0.21042 0.50266 0.22135 0.49549 C 0.22691 0.49179 0.23351 0.49202 0.23941 0.48902 C 0.24878 0.48439 0.2559 0.47885 0.26562 0.47584 C 0.28437 0.45942 0.3217 0.45965 0.34114 0.45827 C 0.35451 0.45965 0.36337 0.46081 0.37552 0.46497 C 0.38437 0.47283 0.38889 0.47746 0.39514 0.48902 C 0.39774 0.50197 0.39913 0.51538 0.40173 0.52833 C 0.40069 0.53711 0.39965 0.54567 0.39844 0.55445 C 0.39792 0.55815 0.39826 0.56208 0.39687 0.56532 C 0.39427 0.57133 0.38489 0.57226 0.38038 0.57411 C 0.37552 0.57341 0.37048 0.57341 0.36562 0.57202 C 0.36319 0.57133 0.36146 0.56786 0.35903 0.56763 C 0.35469 0.56671 0.34253 0.57272 0.35417 0.56763 C 0.35729 0.55584 0.3526 0.54659 0.3526 0.5348 C 0.3526 0.53387 0.35364 0.53619 0.35417 0.53688 E">
                                      <p:cBhvr>
                                        <p:cTn id="1334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6" dur="4745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7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1338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1" dur="1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42" dur="1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43" dur="1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3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6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8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0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1361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4" dur="1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65" dur="1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66" dur="1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9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3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1384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7" dur="1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88" dur="1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89" dur="1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2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6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1407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0" dur="1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11" dur="1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12" dur="1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1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1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5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37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93960" y="447480"/>
            <a:ext cx="1369800" cy="7268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440" name="Овал 14"/>
          <p:cNvSpPr/>
          <p:nvPr/>
        </p:nvSpPr>
        <p:spPr>
          <a:xfrm rot="338400">
            <a:off x="4804920" y="617040"/>
            <a:ext cx="1015920" cy="573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6+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442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Группа 29"/>
          <p:cNvGrpSpPr/>
          <p:nvPr/>
        </p:nvGrpSpPr>
        <p:grpSpPr>
          <a:xfrm>
            <a:off x="1763640" y="3789360"/>
            <a:ext cx="1368360" cy="1368360"/>
            <a:chOff x="1763640" y="3789360"/>
            <a:chExt cx="1368360" cy="1368360"/>
          </a:xfrm>
        </p:grpSpPr>
        <p:pic>
          <p:nvPicPr>
            <p:cNvPr id="445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763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Овал 17"/>
            <p:cNvSpPr/>
            <p:nvPr/>
          </p:nvSpPr>
          <p:spPr>
            <a:xfrm>
              <a:off x="1763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Группа 27"/>
          <p:cNvGrpSpPr/>
          <p:nvPr/>
        </p:nvGrpSpPr>
        <p:grpSpPr>
          <a:xfrm>
            <a:off x="7093080" y="4292640"/>
            <a:ext cx="2376360" cy="1224000"/>
            <a:chOff x="7093080" y="4292640"/>
            <a:chExt cx="2376360" cy="1224000"/>
          </a:xfrm>
        </p:grpSpPr>
        <p:pic>
          <p:nvPicPr>
            <p:cNvPr id="448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66908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Овал 19"/>
            <p:cNvSpPr/>
            <p:nvPr/>
          </p:nvSpPr>
          <p:spPr>
            <a:xfrm>
              <a:off x="709308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Группа 26"/>
          <p:cNvGrpSpPr/>
          <p:nvPr/>
        </p:nvGrpSpPr>
        <p:grpSpPr>
          <a:xfrm>
            <a:off x="3564000" y="5445000"/>
            <a:ext cx="2709720" cy="1584360"/>
            <a:chOff x="3564000" y="5445000"/>
            <a:chExt cx="2709720" cy="1584360"/>
          </a:xfrm>
        </p:grpSpPr>
        <p:pic>
          <p:nvPicPr>
            <p:cNvPr id="451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98920" y="5445000"/>
              <a:ext cx="177480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Овал 20"/>
            <p:cNvSpPr/>
            <p:nvPr/>
          </p:nvSpPr>
          <p:spPr>
            <a:xfrm>
              <a:off x="3564000" y="602136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454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32"/>
          <p:cNvSpPr/>
          <p:nvPr/>
        </p:nvSpPr>
        <p:spPr>
          <a:xfrm>
            <a:off x="7387920" y="234936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9" dur="indefinite" restart="never" nodeType="tmRoot">
          <p:childTnLst>
            <p:seq>
              <p:cTn id="1430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1431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34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142 0.13827 C 0.1309 0.1341 0.13021 0.12208 0.12812 0.11653 C 0.12448 0.10682 0.11944 0.10474 0.11337 0.09896 C 0.11146 0.09711 0.11041 0.09434 0.1085 0.09249 C 0.09843 0.08301 0.08767 0.07931 0.07569 0.07723 C 0.0533 0.07838 0.03871 0.08 0.01823 0.0837 C 0.00937 0.08786 -0.00018 0.08879 -0.00955 0.0904 C -0.03785 0.10243 -0.0658 0.11792 -0.0915 0.13827 C -0.09861 0.14405 -0.10573 0.15006 -0.11285 0.15584 C -0.11545 0.15792 -0.11702 0.16208 -0.11945 0.16462 C -0.12188 0.16717 -0.12483 0.16902 -0.12761 0.1711 C -0.13681 0.18913 -0.15243 0.19884 -0.16198 0.21688 C -0.16545 0.22335 -0.16858 0.23006 -0.17188 0.23653 C -0.17292 0.23884 -0.17518 0.24324 -0.17518 0.24347 C -0.17882 0.26312 -0.17413 0.24139 -0.18004 0.2585 C -0.1908 0.28925 -0.18229 0.27145 -0.18993 0.28671 C -0.19445 0.30775 -0.19688 0.32093 -0.19809 0.34358 C -0.19775 0.35607 -0.19288 0.41988 -0.19653 0.43954 C -0.1974 0.44393 -0.21094 0.4548 -0.21129 0.45503 C -0.21459 0.45642 -0.22101 0.45919 -0.22101 0.45942 C -0.23091 0.46798 -0.23403 0.46936 -0.24566 0.47237 C -0.25417 0.48069 -0.25868 0.47884 -0.26702 0.48555 C -0.28091 0.49688 -0.2717 0.49225 -0.28177 0.49642 C -0.28334 0.4978 -0.28525 0.49896 -0.28663 0.50081 C -0.28802 0.50266 -0.28993 0.50728 -0.28993 0.50751 E">
                                      <p:cBhvr>
                                        <p:cTn id="1436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8" dur="4745" fill="hold"/>
                                        <p:tgtEl>
                                          <p:spTgt spid="4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9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1440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3" dur="1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44" dur="1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45" dur="1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8" dur="5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2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1463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6" dur="1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67" dur="1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68" dur="1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6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7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1" dur="5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8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5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1486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9" dur="1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90" dur="1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91" dur="1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4" dur="5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8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1509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2" dur="1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13" dur="1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14" dur="1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7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64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760" y="753840"/>
            <a:ext cx="1517760" cy="7268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467" name="Овал 14"/>
          <p:cNvSpPr/>
          <p:nvPr/>
        </p:nvSpPr>
        <p:spPr>
          <a:xfrm rot="338400">
            <a:off x="4781160" y="888480"/>
            <a:ext cx="1015920" cy="554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8+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Группа 24"/>
          <p:cNvGrpSpPr/>
          <p:nvPr/>
        </p:nvGrpSpPr>
        <p:grpSpPr>
          <a:xfrm>
            <a:off x="6732720" y="2492280"/>
            <a:ext cx="2411280" cy="1285920"/>
            <a:chOff x="6732720" y="2492280"/>
            <a:chExt cx="2411280" cy="1285920"/>
          </a:xfrm>
        </p:grpSpPr>
        <p:pic>
          <p:nvPicPr>
            <p:cNvPr id="469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9228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Овал 15"/>
            <p:cNvSpPr/>
            <p:nvPr/>
          </p:nvSpPr>
          <p:spPr>
            <a:xfrm>
              <a:off x="7956720" y="328464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472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Группа 27"/>
          <p:cNvGrpSpPr/>
          <p:nvPr/>
        </p:nvGrpSpPr>
        <p:grpSpPr>
          <a:xfrm>
            <a:off x="7020000" y="4221000"/>
            <a:ext cx="2376360" cy="1224000"/>
            <a:chOff x="7020000" y="4221000"/>
            <a:chExt cx="2376360" cy="1224000"/>
          </a:xfrm>
        </p:grpSpPr>
        <p:pic>
          <p:nvPicPr>
            <p:cNvPr id="475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9600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Овал 19"/>
            <p:cNvSpPr/>
            <p:nvPr/>
          </p:nvSpPr>
          <p:spPr>
            <a:xfrm>
              <a:off x="702000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478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481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1" dur="indefinite" restart="never" nodeType="tmRoot">
          <p:childTnLst>
            <p:seq>
              <p:cTn id="1532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1533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6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38728E-006 C 0.0125 -0.01133 0.01389 -0.04115 0.02951 -0.04786 C 0.03854 -0.06034 0.04791 -0.06682 0.06059 -0.06982 C 0.07916 -0.0682 0.09114 -0.06589 0.10816 -0.06104 C 0.11354 -0.05641 0.11979 -0.05595 0.12465 -0.05017 C 0.13455 -0.03838 0.14062 -0.02566 0.14757 -0.01086 C 0.15104 -0.0037 0.15225 0.00393 0.15573 0.0111 C 0.16354 0.06521 0.15468 0.10336 0.13611 0.14636 C 0.13212 0.15561 0.13003 0.16232 0.12291 0.1681 C 0.1184 0.17989 0.10972 0.1889 0.10156 0.19653 C 0.09965 0.19838 0.09705 0.19885 0.09514 0.20093 C 0.08593 0.21087 0.08316 0.21989 0.07205 0.22497 C 0.06996 0.22706 0.06753 0.2289 0.06562 0.23145 C 0.06371 0.23399 0.06267 0.23792 0.06059 0.24023 C 0.0592 0.24162 0.05729 0.24139 0.05573 0.24232 C 0.05034 0.24532 0.04687 0.2481 0.04253 0.25341 C 0.03854 0.25827 0.03107 0.26867 0.03107 0.26867 C 0.03055 0.27168 0.0309 0.27515 0.02951 0.27746 C 0.02847 0.27931 0.02569 0.27769 0.02465 0.27954 C 0.01475 0.29526 0.02777 0.2874 0.01632 0.29272 C 0.01284 0.29734 0.00885 0.30197 0.00659 0.30798 C 0.00139 0.32185 0.0092 0.31307 1.94444E-006 0.32093 C -0.00295 0.32763 -0.00747 0.33341 -0.0099 0.34058 C -0.01111 0.34405 -0.01059 0.34821 -0.01146 0.35168 C -0.0132 0.35885 -0.0165 0.36717 -0.01962 0.37341 C -0.02084 0.38058 -0.02153 0.38798 -0.02292 0.39515 C -0.02379 0.39954 -0.02622 0.40833 -0.02622 0.40833 C -0.02761 0.42659 -0.03021 0.44532 -0.03438 0.46289 C -0.03611 0.48902 -0.03716 0.48648 -0.03438 0.51099 C -0.03334 0.52047 -0.02292 0.53503 -0.02292 0.53503 C -0.01962 0.54914 -0.00764 0.55977 1.94444E-006 0.56995 C 0.00885 0.58174 0.01389 0.59723 0.02291 0.60925 C 0.02534 0.61804 0.03611 0.63099 0.03611 0.63099 C 0.0408 0.64347 0.04496 0.65457 0.04757 0.66821 C 0.04705 0.67838 0.04757 0.68879 0.04583 0.69873 C 0.04427 0.70821 0.02951 0.71838 0.02951 0.71838 C 0.02326 0.73087 0.0158 0.73873 0.00486 0.74243 C -0.004 0.75029 -0.01302 0.75122 -0.02292 0.75538 C -0.02466 0.75677 -0.02795 0.757 -0.02795 0.75977 C -0.02795 0.76463 -0.02344 0.76417 -0.02136 0.76417 E">
                                      <p:cBhvr>
                                        <p:cTn id="1538" dur="20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0" dur="4745" fill="hold"/>
                                        <p:tgtEl>
                                          <p:spTgt spid="4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1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1542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5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46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47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0" dur="5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6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4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1565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8" dur="1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69" dur="1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70" dur="1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3" dur="5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7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1588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1" dur="1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92" dur="1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93" dur="1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6" dur="5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0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1611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4" dur="1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15" dur="1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16" dur="1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9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1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494" name="Овал 14"/>
          <p:cNvSpPr/>
          <p:nvPr/>
        </p:nvSpPr>
        <p:spPr>
          <a:xfrm rot="338400">
            <a:off x="4782600" y="844200"/>
            <a:ext cx="1016280" cy="598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Группа 24"/>
          <p:cNvGrpSpPr/>
          <p:nvPr/>
        </p:nvGrpSpPr>
        <p:grpSpPr>
          <a:xfrm>
            <a:off x="6732720" y="2421000"/>
            <a:ext cx="2411280" cy="1285920"/>
            <a:chOff x="6732720" y="2421000"/>
            <a:chExt cx="2411280" cy="1285920"/>
          </a:xfrm>
        </p:grpSpPr>
        <p:pic>
          <p:nvPicPr>
            <p:cNvPr id="496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2100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Овал 15"/>
            <p:cNvSpPr/>
            <p:nvPr/>
          </p:nvSpPr>
          <p:spPr>
            <a:xfrm>
              <a:off x="7956720" y="321336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499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502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505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Группа 28"/>
          <p:cNvGrpSpPr/>
          <p:nvPr/>
        </p:nvGrpSpPr>
        <p:grpSpPr>
          <a:xfrm>
            <a:off x="0" y="5772240"/>
            <a:ext cx="1908000" cy="1085760"/>
            <a:chOff x="0" y="5772240"/>
            <a:chExt cx="1908000" cy="1085760"/>
          </a:xfrm>
        </p:grpSpPr>
        <p:pic>
          <p:nvPicPr>
            <p:cNvPr id="508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77224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Овал 21"/>
            <p:cNvSpPr/>
            <p:nvPr/>
          </p:nvSpPr>
          <p:spPr>
            <a:xfrm>
              <a:off x="0" y="627552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33"/>
          <p:cNvSpPr/>
          <p:nvPr/>
        </p:nvSpPr>
        <p:spPr>
          <a:xfrm>
            <a:off x="1332000" y="321300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3" dur="indefinite" restart="never" nodeType="tmRoot">
          <p:childTnLst>
            <p:seq>
              <p:cTn id="1634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1635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8" dur="1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39" dur="1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40" dur="1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3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7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1658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1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62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63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6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0" restart="whenNotActive" nodeType="interactiveSeq" fill="hold">
                <p:stCondLst>
                  <p:cond evt="onClick">
                    <p:tgtEl>
                      <p:spTgt spid="501"/>
                    </p:tgtEl>
                  </p:cond>
                </p:stCondLst>
                <p:childTnLst>
                  <p:par>
                    <p:cTn id="1681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4" dur="1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85" dur="1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86" dur="1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9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3" restart="whenNotActive" nodeType="interactiveSeq" fill="hold">
                <p:stCondLst>
                  <p:cond evt="onClick">
                    <p:tgtEl>
                      <p:spTgt spid="504"/>
                    </p:tgtEl>
                  </p:cond>
                </p:stCondLst>
                <p:childTnLst>
                  <p:par>
                    <p:cTn id="1704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7" dur="1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08" dur="1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09" dur="1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1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2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6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1727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6185E-006 C 0.004 -0.01572 0.00122 -0.00925 0.00643 -0.01965 C 0.01007 -0.03537 0.00677 -0.03029 0.01459 -0.03722 C 0.02709 -0.05896 0.0342 -0.06034 0.05382 -0.06335 C 0.06164 -0.06266 0.06945 -0.06266 0.07691 -0.06104 C 0.0849 -0.05942 0.08941 -0.04948 0.09497 -0.0437 C 0.09844 -0.04023 0.10243 -0.03884 0.10643 -0.03722 C 0.11007 -0.03399 0.11493 -0.0326 0.11806 -0.02844 C 0.12431 -0.02011 0.12552 -0.00231 0.13108 0.00879 C 0.13247 0.05596 0.13664 0.11099 0.11962 0.15492 C 0.11771 0.16463 0.11545 0.17272 0.11146 0.18127 C 0.10782 0.19931 0.09271 0.21179 0.08195 0.22266 C 0.07674 0.22798 0.07223 0.23468 0.06719 0.24023 C 0.06042 0.24786 0.05434 0.2585 0.04584 0.26197 C 0.03473 0.27353 0.02101 0.28555 0.01302 0.30127 C 0.01007 0.3126 0.00747 0.31052 0.00973 0.32301 C 0.00695 0.34497 0.00695 0.35099 -4.16667E-006 0.36902 C -0.00191 0.37364 -0.00034 0.38081 -0.00347 0.38428 C -0.01059 0.39307 -0.02222 0.39492 -0.03125 0.39746 C -0.03941 0.40255 -0.04739 0.40231 -0.0559 0.40601 C -0.06718 0.41596 -0.05382 0.40532 -0.06718 0.41272 C -0.07656 0.41781 -0.08385 0.42451 -0.0934 0.42798 C -0.10711 0.44 -0.12239 0.45087 -0.13767 0.4585 C -0.15069 0.46497 -0.13854 0.45989 -0.14913 0.46937 C -0.1526 0.47237 -0.15677 0.47399 -0.16076 0.47584 C -0.17534 0.48301 -0.19288 0.48625 -0.20816 0.48902 C -0.22152 0.4948 -0.23611 0.49989 -0.24757 0.51099 C -0.24948 0.51283 -0.25052 0.51584 -0.25243 0.51746 C -0.25382 0.51885 -0.2559 0.51862 -0.25746 0.51954 C -0.25972 0.5207 -0.26198 0.52208 -0.26389 0.52393 C -0.2743 0.53411 -0.26371 0.52833 -0.27378 0.53272 C -0.2783 0.5496 -0.28281 0.55237 -0.29514 0.55677 C -0.31232 0.57226 -0.28611 0.54821 -0.30503 0.56763 C -0.31145 0.57434 -0.32031 0.57942 -0.32621 0.58729 C -0.3276 0.58914 -0.32795 0.59214 -0.32951 0.59376 C -0.33298 0.59746 -0.33732 0.59931 -0.34097 0.60255 C -0.34618 0.61272 -0.34444 0.61411 -0.35243 0.6222 C -0.3552 0.63283 -0.35885 0.64023 -0.36562 0.64625 C -0.36823 0.65711 -0.37395 0.66243 -0.38194 0.6659 C -0.38524 0.6689 -0.38802 0.67353 -0.39184 0.67468 C -0.39843 0.67677 -0.4026 0.67838 -0.40816 0.68347 C -0.41007 0.69087 -0.41145 0.69665 -0.41475 0.70312 C -0.41527 0.70682 -0.4158 0.71052 -0.41649 0.71399 C -0.41736 0.71838 -0.41979 0.72694 -0.41979 0.72694 C -0.42083 0.72486 -0.42291 0.72046 -0.42291 0.72046 E">
                                      <p:cBhvr>
                                        <p:cTn id="1732" dur="2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4" dur="4745" fill="hold"/>
                                        <p:tgtEl>
                                          <p:spTgt spid="5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521" name="Овал 14"/>
          <p:cNvSpPr/>
          <p:nvPr/>
        </p:nvSpPr>
        <p:spPr>
          <a:xfrm rot="338400">
            <a:off x="4780080" y="894960"/>
            <a:ext cx="1015920" cy="5475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523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526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529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532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535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33"/>
          <p:cNvSpPr/>
          <p:nvPr/>
        </p:nvSpPr>
        <p:spPr>
          <a:xfrm>
            <a:off x="1332000" y="335772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J0214098.WAV" descr=""/>
          <p:cNvPicPr/>
          <p:nvPr/>
        </p:nvPicPr>
        <p:blipFill>
          <a:blip r:embed="rId9"/>
          <a:stretch/>
        </p:blipFill>
        <p:spPr>
          <a:xfrm>
            <a:off x="9396360" y="3284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41" name="TextBox 34"/>
          <p:cNvSpPr/>
          <p:nvPr/>
        </p:nvSpPr>
        <p:spPr>
          <a:xfrm>
            <a:off x="752688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5" dur="indefinite" restart="never" nodeType="tmRoot">
          <p:childTnLst>
            <p:seq>
              <p:cTn id="1736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1737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0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23699E-006 C 0.0033 -0.01248 0.01128 -0.02035 0.01476 -0.03283 C 0.01562 -0.03561 0.01545 -0.03884 0.01649 -0.04162 C 0.01823 -0.04624 0.02309 -0.0548 0.02309 -0.0548 C 0.02604 -0.06705 0.02986 -0.08069 0.03941 -0.08532 C 0.04045 -0.0874 0.04097 -0.0904 0.04271 -0.09179 C 0.04548 -0.0941 0.06042 -0.10104 0.06406 -0.10266 C 0.07656 -0.1015 0.08819 -0.10127 0.1 -0.09618 C 0.10972 -0.0837 0.09983 -0.09433 0.11163 -0.0874 C 0.13073 -0.0763 0.09948 -0.0904 0.12309 -0.07861 C 0.13108 -0.07468 0.13958 -0.07191 0.14757 -0.06774 C 0.15451 -0.06404 0.16059 -0.05896 0.16736 -0.0548 C 0.17048 -0.05295 0.17708 -0.0504 0.17708 -0.0504 C 0.18212 -0.0437 0.18733 -0.04254 0.19184 -0.03514 C 0.1993 -0.02312 0.19167 -0.03376 0.19687 -0.02196 C 0.19948 -0.01595 0.20208 -0.00994 0.20503 -0.00439 C 0.20642 -0.00185 0.20868 -0.00046 0.20989 0.00208 C 0.2125 0.00763 0.21371 0.01434 0.21649 0.01965 C 0.21753 0.02174 0.21875 0.02405 0.21979 0.02613 C 0.22083 0.03122 0.22153 0.03653 0.22309 0.04139 C 0.22378 0.0437 0.22569 0.04532 0.22639 0.04786 C 0.22795 0.05364 0.22951 0.06543 0.22951 0.06543 C 0.22899 0.07931 0.22969 0.09318 0.22795 0.10682 C 0.22656 0.11861 0.21337 0.13202 0.2066 0.13734 C 0.2 0.14937 0.1993 0.14451 0.19184 0.15283 C 0.18507 0.16023 0.17917 0.17087 0.17066 0.17457 C 0.15677 0.1926 0.13507 0.20763 0.11649 0.21596 C 0.11128 0.23006 0.11111 0.22266 0.1033 0.23122 C 0.09305 0.24254 0.08403 0.25179 0.07222 0.25965 C 0.07066 0.26197 0.06927 0.26474 0.06736 0.26636 C 0.06597 0.26775 0.06371 0.26705 0.06233 0.26844 C 0.06076 0.27006 0.06059 0.2733 0.05903 0.27491 C 0.0566 0.27769 0.05364 0.27931 0.05087 0.28162 C 0.0434 0.29572 0.04097 0.30035 0.03455 0.31191 C 0.03281 0.31491 0.02951 0.32093 0.02951 0.32093 C 0.02743 0.33272 0.02292 0.33526 0.01805 0.34474 C 0.01701 0.34983 0.01614 0.35515 0.01476 0.36023 C 0.01354 0.36463 0.01111 0.36856 0.00989 0.37318 C 0.0059 0.38821 0.00451 0.39676 -0.00156 0.41041 C -0.00469 0.44439 -0.00677 0.47815 0.0066 0.50867 C 0.00781 0.51468 0.00885 0.52509 0.01163 0.53041 C 0.01285 0.53295 0.0151 0.53434 0.01649 0.53688 C 0.0191 0.54174 0.02066 0.54752 0.02309 0.55214 C 0.0243 0.55723 0.02621 0.56763 0.02951 0.57202 C 0.04288 0.58983 0.0684 0.60116 0.08698 0.60463 C 0.09514 0.60393 0.10364 0.60555 0.11163 0.60254 C 0.11389 0.60162 0.11354 0.59653 0.11476 0.59376 C 0.11858 0.58567 0.12205 0.57711 0.12795 0.57202 C 0.13368 0.54752 0.15816 0.53619 0.17378 0.52601 C 0.18802 0.51653 0.17621 0.52162 0.18854 0.51723 C 0.19913 0.5089 0.21042 0.50266 0.22135 0.49549 C 0.22691 0.49179 0.23351 0.49202 0.23941 0.48902 C 0.24878 0.48439 0.2559 0.47885 0.26562 0.47584 C 0.28437 0.45942 0.3217 0.45965 0.34114 0.45827 C 0.35451 0.45965 0.36337 0.46081 0.37552 0.46497 C 0.38437 0.47283 0.38889 0.47746 0.39514 0.48902 C 0.39774 0.50197 0.39913 0.51538 0.40173 0.52833 C 0.40069 0.53711 0.39965 0.54567 0.39844 0.55445 C 0.39792 0.55815 0.39826 0.56208 0.39687 0.56532 C 0.39427 0.57133 0.38489 0.57226 0.38038 0.57411 C 0.37552 0.57341 0.37048 0.57341 0.36562 0.57202 C 0.36319 0.57133 0.36146 0.56786 0.35903 0.56763 C 0.35469 0.56671 0.34253 0.57272 0.35417 0.56763 C 0.35729 0.55584 0.3526 0.54659 0.3526 0.5348 C 0.3526 0.53387 0.35364 0.53619 0.35417 0.53688 E">
                                      <p:cBhvr>
                                        <p:cTn id="1742" dur="20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4" dur="4745" fill="hold"/>
                                        <p:tgtEl>
                                          <p:spTgt spid="5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5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1746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9" dur="1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50" dur="1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51" dur="1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1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4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6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8" restart="whenNotActive" nodeType="interactiveSeq" fill="hold">
                <p:stCondLst>
                  <p:cond evt="onClick">
                    <p:tgtEl>
                      <p:spTgt spid="531"/>
                    </p:tgtEl>
                  </p:cond>
                </p:stCondLst>
                <p:childTnLst>
                  <p:par>
                    <p:cTn id="1769" fill="hold">
                      <p:stCondLst>
                        <p:cond evt="onClick">
                          <p:tgtEl>
                            <p:spTgt spid="531"/>
                          </p:tgtEl>
                        </p:cond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2" dur="1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73" dur="1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74" dur="1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7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1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1792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5" dur="1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96" dur="1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97" dur="1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0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4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1815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8" dur="1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19" dur="1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20" dur="1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3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62" name="Овал 14"/>
          <p:cNvSpPr/>
          <p:nvPr/>
        </p:nvSpPr>
        <p:spPr>
          <a:xfrm rot="338400">
            <a:off x="4785840" y="766800"/>
            <a:ext cx="1016280" cy="676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9+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64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67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Группа 27"/>
          <p:cNvGrpSpPr/>
          <p:nvPr/>
        </p:nvGrpSpPr>
        <p:grpSpPr>
          <a:xfrm>
            <a:off x="6767640" y="4221000"/>
            <a:ext cx="2376360" cy="1224000"/>
            <a:chOff x="6767640" y="4221000"/>
            <a:chExt cx="2376360" cy="1224000"/>
          </a:xfrm>
        </p:grpSpPr>
        <p:pic>
          <p:nvPicPr>
            <p:cNvPr id="70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34364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Овал 19"/>
            <p:cNvSpPr/>
            <p:nvPr/>
          </p:nvSpPr>
          <p:spPr>
            <a:xfrm>
              <a:off x="676764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73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76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3.23699E-006 C 0.00138 -0.01826 -0.0007 -0.04462 0.00659 -0.06127 C 0.00781 -0.06381 0.01006 -0.0652 0.01145 -0.06774 C 0.01284 -0.07052 0.01336 -0.07376 0.01475 -0.07653 C 0.02083 -0.08786 0.03003 -0.09225 0.0394 -0.09618 C 0.04444 -0.09826 0.05416 -0.10266 0.05416 -0.10266 C 0.07187 -0.12069 0.10989 -0.11006 0.12621 -0.10936 C 0.13281 -0.10705 0.13663 -0.10474 0.1427 -0.10058 C 0.14722 -0.09757 0.15069 -0.0978 0.15572 -0.09618 C 0.16267 -0.09387 0.16857 -0.08832 0.17534 -0.08532 C 0.18802 -0.07491 0.20295 -0.06867 0.21475 -0.05688 C 0.21666 -0.05503 0.2177 -0.05202 0.21961 -0.0504 C 0.22361 -0.04693 0.22864 -0.04647 0.23281 -0.0437 C 0.23645 -0.04115 0.24427 -0.03468 0.24756 -0.03075 C 0.25624 -0.02035 0.26076 -0.01063 0.26718 0.00208 C 0.28333 0.03376 0.26631 0.00971 0.27864 0.02613 C 0.28107 0.03815 0.28333 0.05272 0.28854 0.06312 C 0.28975 0.0874 0.29392 0.10844 0.28038 0.12648 C 0.2776 0.14058 0.26874 0.14983 0.26232 0.16139 C 0.25399 0.17642 0.25173 0.19191 0.24756 0.20948 C 0.24808 0.22197 0.24826 0.23445 0.24913 0.24671 C 0.25121 0.27468 0.25086 0.23815 0.25086 0.25757 E">
                                      <p:cBhvr>
                                        <p:cTn id="8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474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1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1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1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2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3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5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6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45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93960" y="447480"/>
            <a:ext cx="1369800" cy="7268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548" name="Овал 14"/>
          <p:cNvSpPr/>
          <p:nvPr/>
        </p:nvSpPr>
        <p:spPr>
          <a:xfrm rot="338400">
            <a:off x="4804920" y="617040"/>
            <a:ext cx="1015920" cy="573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550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Группа 29"/>
          <p:cNvGrpSpPr/>
          <p:nvPr/>
        </p:nvGrpSpPr>
        <p:grpSpPr>
          <a:xfrm>
            <a:off x="1763640" y="3789360"/>
            <a:ext cx="1368360" cy="1368360"/>
            <a:chOff x="1763640" y="3789360"/>
            <a:chExt cx="1368360" cy="1368360"/>
          </a:xfrm>
        </p:grpSpPr>
        <p:pic>
          <p:nvPicPr>
            <p:cNvPr id="553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763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Овал 17"/>
            <p:cNvSpPr/>
            <p:nvPr/>
          </p:nvSpPr>
          <p:spPr>
            <a:xfrm>
              <a:off x="1763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Группа 27"/>
          <p:cNvGrpSpPr/>
          <p:nvPr/>
        </p:nvGrpSpPr>
        <p:grpSpPr>
          <a:xfrm>
            <a:off x="7093080" y="4292640"/>
            <a:ext cx="2376360" cy="1224000"/>
            <a:chOff x="7093080" y="4292640"/>
            <a:chExt cx="2376360" cy="1224000"/>
          </a:xfrm>
        </p:grpSpPr>
        <p:pic>
          <p:nvPicPr>
            <p:cNvPr id="556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66908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Овал 19"/>
            <p:cNvSpPr/>
            <p:nvPr/>
          </p:nvSpPr>
          <p:spPr>
            <a:xfrm>
              <a:off x="709308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Группа 26"/>
          <p:cNvGrpSpPr/>
          <p:nvPr/>
        </p:nvGrpSpPr>
        <p:grpSpPr>
          <a:xfrm>
            <a:off x="3564000" y="5445000"/>
            <a:ext cx="2709720" cy="1584360"/>
            <a:chOff x="3564000" y="5445000"/>
            <a:chExt cx="2709720" cy="1584360"/>
          </a:xfrm>
        </p:grpSpPr>
        <p:pic>
          <p:nvPicPr>
            <p:cNvPr id="559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98920" y="5445000"/>
              <a:ext cx="177480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Овал 20"/>
            <p:cNvSpPr/>
            <p:nvPr/>
          </p:nvSpPr>
          <p:spPr>
            <a:xfrm>
              <a:off x="3564000" y="602136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562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2"/>
          <p:cNvSpPr/>
          <p:nvPr/>
        </p:nvSpPr>
        <p:spPr>
          <a:xfrm>
            <a:off x="7387920" y="234936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7" dur="indefinite" restart="never" nodeType="tmRoot">
          <p:childTnLst>
            <p:seq>
              <p:cTn id="1838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1839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4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142 0.13827 C 0.1309 0.1341 0.13021 0.12208 0.12812 0.11653 C 0.12448 0.10682 0.11944 0.10474 0.11337 0.09896 C 0.11146 0.09711 0.11041 0.09434 0.1085 0.09249 C 0.09843 0.08301 0.08767 0.07931 0.07569 0.07723 C 0.0533 0.07838 0.03871 0.08 0.01823 0.0837 C 0.00937 0.08786 -0.00018 0.08879 -0.00955 0.0904 C -0.03785 0.10243 -0.0658 0.11792 -0.0915 0.13827 C -0.09861 0.14405 -0.10573 0.15006 -0.11285 0.15584 C -0.11545 0.15792 -0.11702 0.16208 -0.11945 0.16462 C -0.12188 0.16717 -0.12483 0.16902 -0.12761 0.1711 C -0.13681 0.18913 -0.15243 0.19884 -0.16198 0.21688 C -0.16545 0.22335 -0.16858 0.23006 -0.17188 0.23653 C -0.17292 0.23884 -0.17518 0.24324 -0.17518 0.24347 C -0.17882 0.26312 -0.17413 0.24139 -0.18004 0.2585 C -0.1908 0.28925 -0.18229 0.27145 -0.18993 0.28671 C -0.19445 0.30775 -0.19688 0.32093 -0.19809 0.34358 C -0.19775 0.35607 -0.19288 0.41988 -0.19653 0.43954 C -0.1974 0.44393 -0.21094 0.4548 -0.21129 0.45503 C -0.21459 0.45642 -0.22101 0.45919 -0.22101 0.45942 C -0.23091 0.46798 -0.23403 0.46936 -0.24566 0.47237 C -0.25417 0.48069 -0.25868 0.47884 -0.26702 0.48555 C -0.28091 0.49688 -0.2717 0.49225 -0.28177 0.49642 C -0.28334 0.4978 -0.28525 0.49896 -0.28663 0.50081 C -0.28802 0.50266 -0.28993 0.50728 -0.28993 0.50751 E">
                                      <p:cBhvr>
                                        <p:cTn id="1844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6" dur="4745" fill="hold"/>
                                        <p:tgtEl>
                                          <p:spTgt spid="5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7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1848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1" dur="1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52" dur="1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53" dur="1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6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0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1871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4" dur="1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75" dur="1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76" dur="1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9" dur="5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3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1894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7" dur="1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98" dur="1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99" dur="1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2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6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1917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0" dur="1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21" dur="1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22" dur="1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5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72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575" name="Овал 14"/>
          <p:cNvSpPr/>
          <p:nvPr/>
        </p:nvSpPr>
        <p:spPr>
          <a:xfrm rot="338400">
            <a:off x="4782600" y="844200"/>
            <a:ext cx="1016280" cy="598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9+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Группа 24"/>
          <p:cNvGrpSpPr/>
          <p:nvPr/>
        </p:nvGrpSpPr>
        <p:grpSpPr>
          <a:xfrm>
            <a:off x="6732720" y="2421000"/>
            <a:ext cx="2411280" cy="1285920"/>
            <a:chOff x="6732720" y="2421000"/>
            <a:chExt cx="2411280" cy="1285920"/>
          </a:xfrm>
        </p:grpSpPr>
        <p:pic>
          <p:nvPicPr>
            <p:cNvPr id="577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2100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Овал 15"/>
            <p:cNvSpPr/>
            <p:nvPr/>
          </p:nvSpPr>
          <p:spPr>
            <a:xfrm>
              <a:off x="7956720" y="321336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580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583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586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Группа 28"/>
          <p:cNvGrpSpPr/>
          <p:nvPr/>
        </p:nvGrpSpPr>
        <p:grpSpPr>
          <a:xfrm>
            <a:off x="0" y="5772240"/>
            <a:ext cx="1908000" cy="1085760"/>
            <a:chOff x="0" y="5772240"/>
            <a:chExt cx="1908000" cy="1085760"/>
          </a:xfrm>
        </p:grpSpPr>
        <p:pic>
          <p:nvPicPr>
            <p:cNvPr id="589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77224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Овал 21"/>
            <p:cNvSpPr/>
            <p:nvPr/>
          </p:nvSpPr>
          <p:spPr>
            <a:xfrm>
              <a:off x="0" y="627552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33"/>
          <p:cNvSpPr/>
          <p:nvPr/>
        </p:nvSpPr>
        <p:spPr>
          <a:xfrm>
            <a:off x="1332000" y="321300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9" dur="indefinite" restart="never" nodeType="tmRoot">
          <p:childTnLst>
            <p:seq>
              <p:cTn id="1940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1941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4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45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46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4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9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1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3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1964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7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68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69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2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6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1987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0" dur="1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91" dur="1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92" dur="1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9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9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9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9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5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9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2010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3" dur="1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14" dur="1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15" dur="1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5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8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2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2033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6185E-006 C 0.004 -0.01572 0.00122 -0.00925 0.00643 -0.01965 C 0.01007 -0.03537 0.00677 -0.03029 0.01459 -0.03722 C 0.02709 -0.05896 0.0342 -0.06034 0.05382 -0.06335 C 0.06164 -0.06266 0.06945 -0.06266 0.07691 -0.06104 C 0.0849 -0.05942 0.08941 -0.04948 0.09497 -0.0437 C 0.09844 -0.04023 0.10243 -0.03884 0.10643 -0.03722 C 0.11007 -0.03399 0.11493 -0.0326 0.11806 -0.02844 C 0.12431 -0.02011 0.12552 -0.00231 0.13108 0.00879 C 0.13247 0.05596 0.13664 0.11099 0.11962 0.15492 C 0.11771 0.16463 0.11545 0.17272 0.11146 0.18127 C 0.10782 0.19931 0.09271 0.21179 0.08195 0.22266 C 0.07674 0.22798 0.07223 0.23468 0.06719 0.24023 C 0.06042 0.24786 0.05434 0.2585 0.04584 0.26197 C 0.03473 0.27353 0.02101 0.28555 0.01302 0.30127 C 0.01007 0.3126 0.00747 0.31052 0.00973 0.32301 C 0.00695 0.34497 0.00695 0.35099 -4.16667E-006 0.36902 C -0.00191 0.37364 -0.00034 0.38081 -0.00347 0.38428 C -0.01059 0.39307 -0.02222 0.39492 -0.03125 0.39746 C -0.03941 0.40255 -0.04739 0.40231 -0.0559 0.40601 C -0.06718 0.41596 -0.05382 0.40532 -0.06718 0.41272 C -0.07656 0.41781 -0.08385 0.42451 -0.0934 0.42798 C -0.10711 0.44 -0.12239 0.45087 -0.13767 0.4585 C -0.15069 0.46497 -0.13854 0.45989 -0.14913 0.46937 C -0.1526 0.47237 -0.15677 0.47399 -0.16076 0.47584 C -0.17534 0.48301 -0.19288 0.48625 -0.20816 0.48902 C -0.22152 0.4948 -0.23611 0.49989 -0.24757 0.51099 C -0.24948 0.51283 -0.25052 0.51584 -0.25243 0.51746 C -0.25382 0.51885 -0.2559 0.51862 -0.25746 0.51954 C -0.25972 0.5207 -0.26198 0.52208 -0.26389 0.52393 C -0.2743 0.53411 -0.26371 0.52833 -0.27378 0.53272 C -0.2783 0.5496 -0.28281 0.55237 -0.29514 0.55677 C -0.31232 0.57226 -0.28611 0.54821 -0.30503 0.56763 C -0.31145 0.57434 -0.32031 0.57942 -0.32621 0.58729 C -0.3276 0.58914 -0.32795 0.59214 -0.32951 0.59376 C -0.33298 0.59746 -0.33732 0.59931 -0.34097 0.60255 C -0.34618 0.61272 -0.34444 0.61411 -0.35243 0.6222 C -0.3552 0.63283 -0.35885 0.64023 -0.36562 0.64625 C -0.36823 0.65711 -0.37395 0.66243 -0.38194 0.6659 C -0.38524 0.6689 -0.38802 0.67353 -0.39184 0.67468 C -0.39843 0.67677 -0.4026 0.67838 -0.40816 0.68347 C -0.41007 0.69087 -0.41145 0.69665 -0.41475 0.70312 C -0.41527 0.70682 -0.4158 0.71052 -0.41649 0.71399 C -0.41736 0.71838 -0.41979 0.72694 -0.41979 0.72694 C -0.42083 0.72486 -0.42291 0.72046 -0.42291 0.72046 E">
                                      <p:cBhvr>
                                        <p:cTn id="2038" dur="2000" fill="hold"/>
                                        <p:tgtEl>
                                          <p:spTgt spid="5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0" dur="4745" fill="hold"/>
                                        <p:tgtEl>
                                          <p:spTgt spid="5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99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602" name="Овал 14"/>
          <p:cNvSpPr/>
          <p:nvPr/>
        </p:nvSpPr>
        <p:spPr>
          <a:xfrm rot="338400">
            <a:off x="4785840" y="766800"/>
            <a:ext cx="1016280" cy="676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7+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604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607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Группа 27"/>
          <p:cNvGrpSpPr/>
          <p:nvPr/>
        </p:nvGrpSpPr>
        <p:grpSpPr>
          <a:xfrm>
            <a:off x="6767640" y="4221000"/>
            <a:ext cx="2376360" cy="1224000"/>
            <a:chOff x="6767640" y="4221000"/>
            <a:chExt cx="2376360" cy="1224000"/>
          </a:xfrm>
        </p:grpSpPr>
        <p:pic>
          <p:nvPicPr>
            <p:cNvPr id="610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34364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Овал 19"/>
            <p:cNvSpPr/>
            <p:nvPr/>
          </p:nvSpPr>
          <p:spPr>
            <a:xfrm>
              <a:off x="676764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613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616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1" dur="indefinite" restart="never" nodeType="tmRoot">
          <p:childTnLst>
            <p:seq>
              <p:cTn id="2042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2043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46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3.23699E-006 C 0.00138 -0.01826 -0.0007 -0.04462 0.00659 -0.06127 C 0.00781 -0.06381 0.01006 -0.0652 0.01145 -0.06774 C 0.01284 -0.07052 0.01336 -0.07376 0.01475 -0.07653 C 0.02083 -0.08786 0.03003 -0.09225 0.0394 -0.09618 C 0.04444 -0.09826 0.05416 -0.10266 0.05416 -0.10266 C 0.07187 -0.12069 0.10989 -0.11006 0.12621 -0.10936 C 0.13281 -0.10705 0.13663 -0.10474 0.1427 -0.10058 C 0.14722 -0.09757 0.15069 -0.0978 0.15572 -0.09618 C 0.16267 -0.09387 0.16857 -0.08832 0.17534 -0.08532 C 0.18802 -0.07491 0.20295 -0.06867 0.21475 -0.05688 C 0.21666 -0.05503 0.2177 -0.05202 0.21961 -0.0504 C 0.22361 -0.04693 0.22864 -0.04647 0.23281 -0.0437 C 0.23645 -0.04115 0.24427 -0.03468 0.24756 -0.03075 C 0.25624 -0.02035 0.26076 -0.01063 0.26718 0.00208 C 0.28333 0.03376 0.26631 0.00971 0.27864 0.02613 C 0.28107 0.03815 0.28333 0.05272 0.28854 0.06312 C 0.28975 0.0874 0.29392 0.10844 0.28038 0.12648 C 0.2776 0.14058 0.26874 0.14983 0.26232 0.16139 C 0.25399 0.17642 0.25173 0.19191 0.24756 0.20948 C 0.24808 0.22197 0.24826 0.23445 0.24913 0.24671 C 0.25121 0.27468 0.25086 0.23815 0.25086 0.25757 E">
                                      <p:cBhvr>
                                        <p:cTn id="2048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0" dur="4745" fill="hold"/>
                                        <p:tgtEl>
                                          <p:spTgt spid="6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1" restart="whenNotActive" nodeType="interactiveSeq" fill="hold">
                <p:stCondLst>
                  <p:cond evt="onClick">
                    <p:tgtEl>
                      <p:spTgt spid="606"/>
                    </p:tgtEl>
                  </p:cond>
                </p:stCondLst>
                <p:childTnLst>
                  <p:par>
                    <p:cTn id="2052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5" dur="1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56" dur="1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57" dur="1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0" dur="5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5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4" restart="whenNotActive" nodeType="interactiveSeq" fill="hold">
                <p:stCondLst>
                  <p:cond evt="onClick">
                    <p:tgtEl>
                      <p:spTgt spid="609"/>
                    </p:tgtEl>
                  </p:cond>
                </p:stCondLst>
                <p:childTnLst>
                  <p:par>
                    <p:cTn id="2075" fill="hold">
                      <p:stCondLst>
                        <p:cond evt="onClick">
                          <p:tgtEl>
                            <p:spTgt spid="609"/>
                          </p:tgtEl>
                        </p:cond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8" dur="1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79" dur="1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80" dur="1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3" dur="5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4" dur="5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9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7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2098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1" dur="1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02" dur="1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03" dur="1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0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0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0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6" dur="5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5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0" restart="whenNotActive" nodeType="interactiveSeq" fill="hold">
                <p:stCondLst>
                  <p:cond evt="onClick">
                    <p:tgtEl>
                      <p:spTgt spid="615"/>
                    </p:tgtEl>
                  </p:cond>
                </p:stCondLst>
                <p:childTnLst>
                  <p:par>
                    <p:cTn id="2121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4" dur="1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25" dur="1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26" dur="1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9" dur="50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50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41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626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760" y="753840"/>
            <a:ext cx="1517760" cy="72684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629" name="Овал 14"/>
          <p:cNvSpPr/>
          <p:nvPr/>
        </p:nvSpPr>
        <p:spPr>
          <a:xfrm rot="338400">
            <a:off x="4781160" y="888480"/>
            <a:ext cx="1015920" cy="554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9+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Группа 24"/>
          <p:cNvGrpSpPr/>
          <p:nvPr/>
        </p:nvGrpSpPr>
        <p:grpSpPr>
          <a:xfrm>
            <a:off x="6732720" y="2492280"/>
            <a:ext cx="2411280" cy="1285920"/>
            <a:chOff x="6732720" y="2492280"/>
            <a:chExt cx="2411280" cy="1285920"/>
          </a:xfrm>
        </p:grpSpPr>
        <p:pic>
          <p:nvPicPr>
            <p:cNvPr id="631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9228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Овал 15"/>
            <p:cNvSpPr/>
            <p:nvPr/>
          </p:nvSpPr>
          <p:spPr>
            <a:xfrm>
              <a:off x="7956720" y="328464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634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Группа 27"/>
          <p:cNvGrpSpPr/>
          <p:nvPr/>
        </p:nvGrpSpPr>
        <p:grpSpPr>
          <a:xfrm>
            <a:off x="7020000" y="4221000"/>
            <a:ext cx="2376360" cy="1224000"/>
            <a:chOff x="7020000" y="4221000"/>
            <a:chExt cx="2376360" cy="1224000"/>
          </a:xfrm>
        </p:grpSpPr>
        <p:pic>
          <p:nvPicPr>
            <p:cNvPr id="637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9600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Овал 19"/>
            <p:cNvSpPr/>
            <p:nvPr/>
          </p:nvSpPr>
          <p:spPr>
            <a:xfrm>
              <a:off x="702000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640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643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3" dur="indefinite" restart="never" nodeType="tmRoot">
          <p:childTnLst>
            <p:seq>
              <p:cTn id="2144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2145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8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38728E-006 C 0.0125 -0.01133 0.01389 -0.04115 0.02951 -0.04786 C 0.03854 -0.06034 0.04791 -0.06682 0.06059 -0.06982 C 0.07916 -0.0682 0.09114 -0.06589 0.10816 -0.06104 C 0.11354 -0.05641 0.11979 -0.05595 0.12465 -0.05017 C 0.13455 -0.03838 0.14062 -0.02566 0.14757 -0.01086 C 0.15104 -0.0037 0.15225 0.00393 0.15573 0.0111 C 0.16354 0.06521 0.15468 0.10336 0.13611 0.14636 C 0.13212 0.15561 0.13003 0.16232 0.12291 0.1681 C 0.1184 0.17989 0.10972 0.1889 0.10156 0.19653 C 0.09965 0.19838 0.09705 0.19885 0.09514 0.20093 C 0.08593 0.21087 0.08316 0.21989 0.07205 0.22497 C 0.06996 0.22706 0.06753 0.2289 0.06562 0.23145 C 0.06371 0.23399 0.06267 0.23792 0.06059 0.24023 C 0.0592 0.24162 0.05729 0.24139 0.05573 0.24232 C 0.05034 0.24532 0.04687 0.2481 0.04253 0.25341 C 0.03854 0.25827 0.03107 0.26867 0.03107 0.26867 C 0.03055 0.27168 0.0309 0.27515 0.02951 0.27746 C 0.02847 0.27931 0.02569 0.27769 0.02465 0.27954 C 0.01475 0.29526 0.02777 0.2874 0.01632 0.29272 C 0.01284 0.29734 0.00885 0.30197 0.00659 0.30798 C 0.00139 0.32185 0.0092 0.31307 1.94444E-006 0.32093 C -0.00295 0.32763 -0.00747 0.33341 -0.0099 0.34058 C -0.01111 0.34405 -0.01059 0.34821 -0.01146 0.35168 C -0.0132 0.35885 -0.0165 0.36717 -0.01962 0.37341 C -0.02084 0.38058 -0.02153 0.38798 -0.02292 0.39515 C -0.02379 0.39954 -0.02622 0.40833 -0.02622 0.40833 C -0.02761 0.42659 -0.03021 0.44532 -0.03438 0.46289 C -0.03611 0.48902 -0.03716 0.48648 -0.03438 0.51099 C -0.03334 0.52047 -0.02292 0.53503 -0.02292 0.53503 C -0.01962 0.54914 -0.00764 0.55977 1.94444E-006 0.56995 C 0.00885 0.58174 0.01389 0.59723 0.02291 0.60925 C 0.02534 0.61804 0.03611 0.63099 0.03611 0.63099 C 0.0408 0.64347 0.04496 0.65457 0.04757 0.66821 C 0.04705 0.67838 0.04757 0.68879 0.04583 0.69873 C 0.04427 0.70821 0.02951 0.71838 0.02951 0.71838 C 0.02326 0.73087 0.0158 0.73873 0.00486 0.74243 C -0.004 0.75029 -0.01302 0.75122 -0.02292 0.75538 C -0.02466 0.75677 -0.02795 0.757 -0.02795 0.75977 C -0.02795 0.76463 -0.02344 0.76417 -0.02136 0.76417 E">
                                      <p:cBhvr>
                                        <p:cTn id="2150" dur="2000" fill="hold"/>
                                        <p:tgtEl>
                                          <p:spTgt spid="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2" dur="4745" fill="hold"/>
                                        <p:tgtEl>
                                          <p:spTgt spid="6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3" restart="whenNotActive" nodeType="interactiveSeq" fill="hold">
                <p:stCondLst>
                  <p:cond evt="onClick">
                    <p:tgtEl>
                      <p:spTgt spid="630"/>
                    </p:tgtEl>
                  </p:cond>
                </p:stCondLst>
                <p:childTnLst>
                  <p:par>
                    <p:cTn id="2154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7" dur="1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58" dur="1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59" dur="1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2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7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6" restart="whenNotActive" nodeType="interactiveSeq" fill="hold">
                <p:stCondLst>
                  <p:cond evt="onClick">
                    <p:tgtEl>
                      <p:spTgt spid="633"/>
                    </p:tgtEl>
                  </p:cond>
                </p:stCondLst>
                <p:childTnLst>
                  <p:par>
                    <p:cTn id="2177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0" dur="1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81" dur="1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82" dur="1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5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9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9" restart="whenNotActive" nodeType="interactiveSeq" fill="hold">
                <p:stCondLst>
                  <p:cond evt="onClick">
                    <p:tgtEl>
                      <p:spTgt spid="642"/>
                    </p:tgtEl>
                  </p:cond>
                </p:stCondLst>
                <p:childTnLst>
                  <p:par>
                    <p:cTn id="2200" fill="hold">
                      <p:stCondLst>
                        <p:cond evt="onClick">
                          <p:tgtEl>
                            <p:spTgt spid="642"/>
                          </p:tgtEl>
                        </p:cond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3" dur="1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04" dur="1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05" dur="1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8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9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0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2" restart="whenNotActive" nodeType="interactiveSeq" fill="hold">
                <p:stCondLst>
                  <p:cond evt="onClick">
                    <p:tgtEl>
                      <p:spTgt spid="636"/>
                    </p:tgtEl>
                  </p:cond>
                </p:stCondLst>
                <p:childTnLst>
                  <p:par>
                    <p:cTn id="2223" fill="hold">
                      <p:stCondLst>
                        <p:cond evt="onClick">
                          <p:tgtEl>
                            <p:spTgt spid="636"/>
                          </p:tgtEl>
                        </p:cond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6" dur="1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27" dur="1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28" dur="1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1" dur="5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2" dur="5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653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656" name="Овал 14"/>
          <p:cNvSpPr/>
          <p:nvPr/>
        </p:nvSpPr>
        <p:spPr>
          <a:xfrm rot="338400">
            <a:off x="4785840" y="766800"/>
            <a:ext cx="1016280" cy="676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658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661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Группа 27"/>
          <p:cNvGrpSpPr/>
          <p:nvPr/>
        </p:nvGrpSpPr>
        <p:grpSpPr>
          <a:xfrm>
            <a:off x="6767640" y="4221000"/>
            <a:ext cx="2376360" cy="1224000"/>
            <a:chOff x="6767640" y="4221000"/>
            <a:chExt cx="2376360" cy="1224000"/>
          </a:xfrm>
        </p:grpSpPr>
        <p:pic>
          <p:nvPicPr>
            <p:cNvPr id="664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34364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Овал 19"/>
            <p:cNvSpPr/>
            <p:nvPr/>
          </p:nvSpPr>
          <p:spPr>
            <a:xfrm>
              <a:off x="676764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667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670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5" dur="indefinite" restart="never" nodeType="tmRoot">
          <p:childTnLst>
            <p:seq>
              <p:cTn id="2246" restart="whenNotActive" nodeType="interactiveSeq" fill="hold">
                <p:stCondLst>
                  <p:cond evt="onClick">
                    <p:tgtEl>
                      <p:spTgt spid="657"/>
                    </p:tgtEl>
                  </p:cond>
                </p:stCondLst>
                <p:childTnLst>
                  <p:par>
                    <p:cTn id="2247" fill="hold">
                      <p:stCondLst>
                        <p:cond evt="onClick">
                          <p:tgtEl>
                            <p:spTgt spid="657"/>
                          </p:tgtEl>
                        </p:cond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0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3.23699E-006 C 0.00138 -0.01826 -0.0007 -0.04462 0.00659 -0.06127 C 0.00781 -0.06381 0.01006 -0.0652 0.01145 -0.06774 C 0.01284 -0.07052 0.01336 -0.07376 0.01475 -0.07653 C 0.02083 -0.08786 0.03003 -0.09225 0.0394 -0.09618 C 0.04444 -0.09826 0.05416 -0.10266 0.05416 -0.10266 C 0.07187 -0.12069 0.10989 -0.11006 0.12621 -0.10936 C 0.13281 -0.10705 0.13663 -0.10474 0.1427 -0.10058 C 0.14722 -0.09757 0.15069 -0.0978 0.15572 -0.09618 C 0.16267 -0.09387 0.16857 -0.08832 0.17534 -0.08532 C 0.18802 -0.07491 0.20295 -0.06867 0.21475 -0.05688 C 0.21666 -0.05503 0.2177 -0.05202 0.21961 -0.0504 C 0.22361 -0.04693 0.22864 -0.04647 0.23281 -0.0437 C 0.23645 -0.04115 0.24427 -0.03468 0.24756 -0.03075 C 0.25624 -0.02035 0.26076 -0.01063 0.26718 0.00208 C 0.28333 0.03376 0.26631 0.00971 0.27864 0.02613 C 0.28107 0.03815 0.28333 0.05272 0.28854 0.06312 C 0.28975 0.0874 0.29392 0.10844 0.28038 0.12648 C 0.2776 0.14058 0.26874 0.14983 0.26232 0.16139 C 0.25399 0.17642 0.25173 0.19191 0.24756 0.20948 C 0.24808 0.22197 0.24826 0.23445 0.24913 0.24671 C 0.25121 0.27468 0.25086 0.23815 0.25086 0.25757 E">
                                      <p:cBhvr>
                                        <p:cTn id="2252" dur="2000" fill="hold"/>
                                        <p:tgtEl>
                                          <p:spTgt spid="6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4" dur="4745" fill="hold"/>
                                        <p:tgtEl>
                                          <p:spTgt spid="6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5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2256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9" dur="1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60" dur="1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61" dur="1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6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6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6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4" dur="5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5" dur="5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76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8" restart="whenNotActive" nodeType="interactiveSeq" fill="hold">
                <p:stCondLst>
                  <p:cond evt="onClick">
                    <p:tgtEl>
                      <p:spTgt spid="663"/>
                    </p:tgtEl>
                  </p:cond>
                </p:stCondLst>
                <p:childTnLst>
                  <p:par>
                    <p:cTn id="2279" fill="hold">
                      <p:stCondLst>
                        <p:cond evt="onClick">
                          <p:tgtEl>
                            <p:spTgt spid="663"/>
                          </p:tgtEl>
                        </p:cond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2" dur="1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83" dur="1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84" dur="1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7" dur="5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8" dur="5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9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1" restart="whenNotActive" nodeType="interactiveSeq" fill="hold">
                <p:stCondLst>
                  <p:cond evt="onClick">
                    <p:tgtEl>
                      <p:spTgt spid="666"/>
                    </p:tgtEl>
                  </p:cond>
                </p:stCondLst>
                <p:childTnLst>
                  <p:par>
                    <p:cTn id="2302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5" dur="1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06" dur="1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07" dur="1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7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0" dur="50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50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22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4" restart="whenNotActive" nodeType="interactiveSeq" fill="hold">
                <p:stCondLst>
                  <p:cond evt="onClick">
                    <p:tgtEl>
                      <p:spTgt spid="669"/>
                    </p:tgtEl>
                  </p:cond>
                </p:stCondLst>
                <p:childTnLst>
                  <p:par>
                    <p:cTn id="2325" fill="hold">
                      <p:stCondLst>
                        <p:cond evt="onClick">
                          <p:tgtEl>
                            <p:spTgt spid="669"/>
                          </p:tgtEl>
                        </p:cond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8" dur="1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29" dur="1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30" dur="1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8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9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3" dur="50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4" dur="50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4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680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683" name="Овал 14"/>
          <p:cNvSpPr/>
          <p:nvPr/>
        </p:nvSpPr>
        <p:spPr>
          <a:xfrm rot="338400">
            <a:off x="4782600" y="844200"/>
            <a:ext cx="1016280" cy="598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8+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Группа 24"/>
          <p:cNvGrpSpPr/>
          <p:nvPr/>
        </p:nvGrpSpPr>
        <p:grpSpPr>
          <a:xfrm>
            <a:off x="6732720" y="2421000"/>
            <a:ext cx="2411280" cy="1285920"/>
            <a:chOff x="6732720" y="2421000"/>
            <a:chExt cx="2411280" cy="1285920"/>
          </a:xfrm>
        </p:grpSpPr>
        <p:pic>
          <p:nvPicPr>
            <p:cNvPr id="685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2100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Овал 15"/>
            <p:cNvSpPr/>
            <p:nvPr/>
          </p:nvSpPr>
          <p:spPr>
            <a:xfrm>
              <a:off x="7956720" y="321336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688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691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694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Группа 28"/>
          <p:cNvGrpSpPr/>
          <p:nvPr/>
        </p:nvGrpSpPr>
        <p:grpSpPr>
          <a:xfrm>
            <a:off x="0" y="5772240"/>
            <a:ext cx="1908000" cy="1085760"/>
            <a:chOff x="0" y="5772240"/>
            <a:chExt cx="1908000" cy="1085760"/>
          </a:xfrm>
        </p:grpSpPr>
        <p:pic>
          <p:nvPicPr>
            <p:cNvPr id="697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77224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Овал 21"/>
            <p:cNvSpPr/>
            <p:nvPr/>
          </p:nvSpPr>
          <p:spPr>
            <a:xfrm>
              <a:off x="0" y="627552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33"/>
          <p:cNvSpPr/>
          <p:nvPr/>
        </p:nvSpPr>
        <p:spPr>
          <a:xfrm>
            <a:off x="1332000" y="321300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7" dur="indefinite" restart="never" nodeType="tmRoot">
          <p:childTnLst>
            <p:seq>
              <p:cTn id="2348" restart="whenNotActive" nodeType="interactiveSeq" fill="hold">
                <p:stCondLst>
                  <p:cond evt="onClick">
                    <p:tgtEl>
                      <p:spTgt spid="687"/>
                    </p:tgtEl>
                  </p:cond>
                </p:stCondLst>
                <p:childTnLst>
                  <p:par>
                    <p:cTn id="2349" fill="hold">
                      <p:stCondLst>
                        <p:cond evt="onClick">
                          <p:tgtEl>
                            <p:spTgt spid="687"/>
                          </p:tgtEl>
                        </p:cond>
                      </p:stCondLst>
                      <p:childTnLst>
                        <p:par>
                          <p:cTn id="2350" fill="hold">
                            <p:stCondLst>
                              <p:cond delay="0"/>
                            </p:stCondLst>
                            <p:childTnLst>
                              <p:par>
                                <p:cTn id="23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2" dur="1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53" dur="1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54" dur="1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2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3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4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7" dur="50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8" dur="50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6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1" restart="whenNotActive" nodeType="interactiveSeq" fill="hold">
                <p:stCondLst>
                  <p:cond evt="onClick">
                    <p:tgtEl>
                      <p:spTgt spid="684"/>
                    </p:tgtEl>
                  </p:cond>
                </p:stCondLst>
                <p:childTnLst>
                  <p:par>
                    <p:cTn id="2372" fill="hold">
                      <p:stCondLst>
                        <p:cond evt="onClick">
                          <p:tgtEl>
                            <p:spTgt spid="684"/>
                          </p:tgtEl>
                        </p:cond>
                      </p:stCondLst>
                      <p:childTnLst>
                        <p:par>
                          <p:cTn id="2373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5" dur="1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76" dur="1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77" dur="1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0" dur="50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1" dur="50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2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4" restart="whenNotActive" nodeType="interactiveSeq" fill="hold">
                <p:stCondLst>
                  <p:cond evt="onClick">
                    <p:tgtEl>
                      <p:spTgt spid="690"/>
                    </p:tgtEl>
                  </p:cond>
                </p:stCondLst>
                <p:childTnLst>
                  <p:par>
                    <p:cTn id="2395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2396" fill="hold">
                            <p:stCondLst>
                              <p:cond delay="0"/>
                            </p:stCondLst>
                            <p:childTnLst>
                              <p:par>
                                <p:cTn id="239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8" dur="1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99" dur="1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00" dur="1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3" dur="50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4" dur="50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1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7" restart="whenNotActive" nodeType="interactiveSeq" fill="hold">
                <p:stCondLst>
                  <p:cond evt="onClick">
                    <p:tgtEl>
                      <p:spTgt spid="693"/>
                    </p:tgtEl>
                  </p:cond>
                </p:stCondLst>
                <p:childTnLst>
                  <p:par>
                    <p:cTn id="2418" fill="hold">
                      <p:stCondLst>
                        <p:cond evt="onClick">
                          <p:tgtEl>
                            <p:spTgt spid="693"/>
                          </p:tgtEl>
                        </p:cond>
                      </p:stCondLst>
                      <p:childTnLst>
                        <p:par>
                          <p:cTn id="2419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1" dur="1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22" dur="1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23" dur="1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6" dur="50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50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38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0" restart="whenNotActive" nodeType="interactiveSeq" fill="hold">
                <p:stCondLst>
                  <p:cond evt="onClick">
                    <p:tgtEl>
                      <p:spTgt spid="696"/>
                    </p:tgtEl>
                  </p:cond>
                </p:stCondLst>
                <p:childTnLst>
                  <p:par>
                    <p:cTn id="2441" fill="hold">
                      <p:stCondLst>
                        <p:cond evt="onClick">
                          <p:tgtEl>
                            <p:spTgt spid="696"/>
                          </p:tgtEl>
                        </p:cond>
                      </p:stCondLst>
                      <p:childTnLst>
                        <p:par>
                          <p:cTn id="2442" fill="hold">
                            <p:stCondLst>
                              <p:cond delay="0"/>
                            </p:stCondLst>
                            <p:childTnLst>
                              <p:par>
                                <p:cTn id="24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44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6185E-006 C 0.004 -0.01572 0.00122 -0.00925 0.00643 -0.01965 C 0.01007 -0.03537 0.00677 -0.03029 0.01459 -0.03722 C 0.02709 -0.05896 0.0342 -0.06034 0.05382 -0.06335 C 0.06164 -0.06266 0.06945 -0.06266 0.07691 -0.06104 C 0.0849 -0.05942 0.08941 -0.04948 0.09497 -0.0437 C 0.09844 -0.04023 0.10243 -0.03884 0.10643 -0.03722 C 0.11007 -0.03399 0.11493 -0.0326 0.11806 -0.02844 C 0.12431 -0.02011 0.12552 -0.00231 0.13108 0.00879 C 0.13247 0.05596 0.13664 0.11099 0.11962 0.15492 C 0.11771 0.16463 0.11545 0.17272 0.11146 0.18127 C 0.10782 0.19931 0.09271 0.21179 0.08195 0.22266 C 0.07674 0.22798 0.07223 0.23468 0.06719 0.24023 C 0.06042 0.24786 0.05434 0.2585 0.04584 0.26197 C 0.03473 0.27353 0.02101 0.28555 0.01302 0.30127 C 0.01007 0.3126 0.00747 0.31052 0.00973 0.32301 C 0.00695 0.34497 0.00695 0.35099 -4.16667E-006 0.36902 C -0.00191 0.37364 -0.00034 0.38081 -0.00347 0.38428 C -0.01059 0.39307 -0.02222 0.39492 -0.03125 0.39746 C -0.03941 0.40255 -0.04739 0.40231 -0.0559 0.40601 C -0.06718 0.41596 -0.05382 0.40532 -0.06718 0.41272 C -0.07656 0.41781 -0.08385 0.42451 -0.0934 0.42798 C -0.10711 0.44 -0.12239 0.45087 -0.13767 0.4585 C -0.15069 0.46497 -0.13854 0.45989 -0.14913 0.46937 C -0.1526 0.47237 -0.15677 0.47399 -0.16076 0.47584 C -0.17534 0.48301 -0.19288 0.48625 -0.20816 0.48902 C -0.22152 0.4948 -0.23611 0.49989 -0.24757 0.51099 C -0.24948 0.51283 -0.25052 0.51584 -0.25243 0.51746 C -0.25382 0.51885 -0.2559 0.51862 -0.25746 0.51954 C -0.25972 0.5207 -0.26198 0.52208 -0.26389 0.52393 C -0.2743 0.53411 -0.26371 0.52833 -0.27378 0.53272 C -0.2783 0.5496 -0.28281 0.55237 -0.29514 0.55677 C -0.31232 0.57226 -0.28611 0.54821 -0.30503 0.56763 C -0.31145 0.57434 -0.32031 0.57942 -0.32621 0.58729 C -0.3276 0.58914 -0.32795 0.59214 -0.32951 0.59376 C -0.33298 0.59746 -0.33732 0.59931 -0.34097 0.60255 C -0.34618 0.61272 -0.34444 0.61411 -0.35243 0.6222 C -0.3552 0.63283 -0.35885 0.64023 -0.36562 0.64625 C -0.36823 0.65711 -0.37395 0.66243 -0.38194 0.6659 C -0.38524 0.6689 -0.38802 0.67353 -0.39184 0.67468 C -0.39843 0.67677 -0.4026 0.67838 -0.40816 0.68347 C -0.41007 0.69087 -0.41145 0.69665 -0.41475 0.70312 C -0.41527 0.70682 -0.4158 0.71052 -0.41649 0.71399 C -0.41736 0.71838 -0.41979 0.72694 -0.41979 0.72694 C -0.42083 0.72486 -0.42291 0.72046 -0.42291 0.72046 E">
                                      <p:cBhvr>
                                        <p:cTn id="2446" dur="2000" fill="hold"/>
                                        <p:tgtEl>
                                          <p:spTgt spid="6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8" dur="4745" fill="hold"/>
                                        <p:tgtEl>
                                          <p:spTgt spid="7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Интернет - 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Лис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.foto.radikal.ru/0703/4c/62848a88ea59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Черепах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60.radikal.ru/i167/0905/df/b0f13a86605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Мышк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s43.radikal.ru/i100/1001/20/5b7dede1e7dc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Жираф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s59.radikal.ru/i165/1010/56/331c0aa3caaf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аран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s59.radikal.ru/i166/0903/59/7431a707a57a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ерблюд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http://www.elephant.ru/images/toys/190/5000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устын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http://www.pcservicespb.ru/wallpaper/wallpaper/pustosh/1280/2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опугай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s003.radikal.ru/i201/1010/90/a084e16c5d96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Конвер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s11.radikal.ru/i183/0908/61/ef01b4e7d546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4">
            <a:hlinkClick r:id="" action="ppaction://hlinkshowjump?jump=firstslide"/>
          </p:cNvPr>
          <p:cNvSpPr/>
          <p:nvPr/>
        </p:nvSpPr>
        <p:spPr>
          <a:xfrm>
            <a:off x="7740720" y="5950080"/>
            <a:ext cx="934920" cy="718920"/>
          </a:xfrm>
          <a:custGeom>
            <a:avLst/>
            <a:gdLst>
              <a:gd name="textAreaLeft" fmla="*/ 46440 w 934920"/>
              <a:gd name="textAreaRight" fmla="*/ 888480 w 9349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8086" h="21600">
                <a:moveTo>
                  <a:pt x="0" y="0"/>
                </a:moveTo>
                <a:lnTo>
                  <a:pt x="28086" y="0"/>
                </a:lnTo>
                <a:lnTo>
                  <a:pt x="28086" y="21600"/>
                </a:lnTo>
                <a:lnTo>
                  <a:pt x="0" y="21600"/>
                </a:lnTo>
                <a:close/>
              </a:path>
              <a:path fill="lightenLess" w="28086" h="21600">
                <a:moveTo>
                  <a:pt x="0" y="0"/>
                </a:moveTo>
                <a:lnTo>
                  <a:pt x="28086" y="0"/>
                </a:lnTo>
                <a:lnTo>
                  <a:pt x="26686" y="1400"/>
                </a:lnTo>
                <a:lnTo>
                  <a:pt x="1400" y="1400"/>
                </a:lnTo>
                <a:close/>
              </a:path>
              <a:path fill="darken" w="28086" h="21600">
                <a:moveTo>
                  <a:pt x="28086" y="0"/>
                </a:moveTo>
                <a:lnTo>
                  <a:pt x="28086" y="21600"/>
                </a:lnTo>
                <a:lnTo>
                  <a:pt x="26686" y="20200"/>
                </a:lnTo>
                <a:lnTo>
                  <a:pt x="26686" y="1400"/>
                </a:lnTo>
                <a:close/>
              </a:path>
              <a:path fill="darkenLess" w="28086" h="21600">
                <a:moveTo>
                  <a:pt x="280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86" y="20200"/>
                </a:lnTo>
                <a:close/>
              </a:path>
              <a:path fill="lighten" w="280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86" h="21600">
                <a:moveTo>
                  <a:pt x="14043" y="3837"/>
                </a:moveTo>
                <a:lnTo>
                  <a:pt x="16620" y="6448"/>
                </a:lnTo>
                <a:lnTo>
                  <a:pt x="16620" y="4707"/>
                </a:lnTo>
                <a:lnTo>
                  <a:pt x="18395" y="4707"/>
                </a:lnTo>
                <a:lnTo>
                  <a:pt x="18395" y="8224"/>
                </a:lnTo>
                <a:lnTo>
                  <a:pt x="21006" y="10800"/>
                </a:lnTo>
                <a:lnTo>
                  <a:pt x="19353" y="10800"/>
                </a:lnTo>
                <a:lnTo>
                  <a:pt x="19353" y="17989"/>
                </a:lnTo>
                <a:lnTo>
                  <a:pt x="8734" y="17989"/>
                </a:lnTo>
                <a:lnTo>
                  <a:pt x="8734" y="10800"/>
                </a:lnTo>
                <a:lnTo>
                  <a:pt x="7080" y="10800"/>
                </a:lnTo>
                <a:close/>
              </a:path>
              <a:path fill="darkenLess" w="28086" h="21600">
                <a:moveTo>
                  <a:pt x="16620" y="6448"/>
                </a:moveTo>
                <a:lnTo>
                  <a:pt x="16620" y="4707"/>
                </a:lnTo>
                <a:lnTo>
                  <a:pt x="18395" y="4707"/>
                </a:lnTo>
                <a:lnTo>
                  <a:pt x="18395" y="8224"/>
                </a:lnTo>
                <a:close/>
              </a:path>
              <a:path fill="darkenLess" w="28086" h="21600">
                <a:moveTo>
                  <a:pt x="13121" y="14299"/>
                </a:moveTo>
                <a:lnTo>
                  <a:pt x="14966" y="14299"/>
                </a:lnTo>
                <a:lnTo>
                  <a:pt x="14966" y="17989"/>
                </a:lnTo>
                <a:lnTo>
                  <a:pt x="19353" y="17989"/>
                </a:lnTo>
                <a:lnTo>
                  <a:pt x="19353" y="10800"/>
                </a:lnTo>
                <a:lnTo>
                  <a:pt x="8734" y="10800"/>
                </a:lnTo>
                <a:lnTo>
                  <a:pt x="8734" y="17989"/>
                </a:lnTo>
                <a:lnTo>
                  <a:pt x="1312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89" name="Овал 14"/>
          <p:cNvSpPr/>
          <p:nvPr/>
        </p:nvSpPr>
        <p:spPr>
          <a:xfrm rot="338400">
            <a:off x="4782600" y="844200"/>
            <a:ext cx="1016280" cy="598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Группа 24"/>
          <p:cNvGrpSpPr/>
          <p:nvPr/>
        </p:nvGrpSpPr>
        <p:grpSpPr>
          <a:xfrm>
            <a:off x="6732720" y="2421000"/>
            <a:ext cx="2411280" cy="1285920"/>
            <a:chOff x="6732720" y="2421000"/>
            <a:chExt cx="2411280" cy="1285920"/>
          </a:xfrm>
        </p:grpSpPr>
        <p:pic>
          <p:nvPicPr>
            <p:cNvPr id="91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2100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Овал 15"/>
            <p:cNvSpPr/>
            <p:nvPr/>
          </p:nvSpPr>
          <p:spPr>
            <a:xfrm>
              <a:off x="7956720" y="321336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94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97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100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Группа 28"/>
          <p:cNvGrpSpPr/>
          <p:nvPr/>
        </p:nvGrpSpPr>
        <p:grpSpPr>
          <a:xfrm>
            <a:off x="0" y="5772240"/>
            <a:ext cx="1908000" cy="1085760"/>
            <a:chOff x="0" y="5772240"/>
            <a:chExt cx="1908000" cy="1085760"/>
          </a:xfrm>
        </p:grpSpPr>
        <p:pic>
          <p:nvPicPr>
            <p:cNvPr id="103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77224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Овал 21"/>
            <p:cNvSpPr/>
            <p:nvPr/>
          </p:nvSpPr>
          <p:spPr>
            <a:xfrm>
              <a:off x="0" y="627552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3"/>
          <p:cNvSpPr/>
          <p:nvPr/>
        </p:nvSpPr>
        <p:spPr>
          <a:xfrm>
            <a:off x="1332000" y="321300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9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0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2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3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5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6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8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9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6185E-006 C 0.004 -0.01572 0.00122 -0.00925 0.00643 -0.01965 C 0.01007 -0.03537 0.00677 -0.03029 0.01459 -0.03722 C 0.02709 -0.05896 0.0342 -0.06034 0.05382 -0.06335 C 0.06164 -0.06266 0.06945 -0.06266 0.07691 -0.06104 C 0.0849 -0.05942 0.08941 -0.04948 0.09497 -0.0437 C 0.09844 -0.04023 0.10243 -0.03884 0.10643 -0.03722 C 0.11007 -0.03399 0.11493 -0.0326 0.11806 -0.02844 C 0.12431 -0.02011 0.12552 -0.00231 0.13108 0.00879 C 0.13247 0.05596 0.13664 0.11099 0.11962 0.15492 C 0.11771 0.16463 0.11545 0.17272 0.11146 0.18127 C 0.10782 0.19931 0.09271 0.21179 0.08195 0.22266 C 0.07674 0.22798 0.07223 0.23468 0.06719 0.24023 C 0.06042 0.24786 0.05434 0.2585 0.04584 0.26197 C 0.03473 0.27353 0.02101 0.28555 0.01302 0.30127 C 0.01007 0.3126 0.00747 0.31052 0.00973 0.32301 C 0.00695 0.34497 0.00695 0.35099 -4.16667E-006 0.36902 C -0.00191 0.37364 -0.00034 0.38081 -0.00347 0.38428 C -0.01059 0.39307 -0.02222 0.39492 -0.03125 0.39746 C -0.03941 0.40255 -0.04739 0.40231 -0.0559 0.40601 C -0.06718 0.41596 -0.05382 0.40532 -0.06718 0.41272 C -0.07656 0.41781 -0.08385 0.42451 -0.0934 0.42798 C -0.10711 0.44 -0.12239 0.45087 -0.13767 0.4585 C -0.15069 0.46497 -0.13854 0.45989 -0.14913 0.46937 C -0.1526 0.47237 -0.15677 0.47399 -0.16076 0.47584 C -0.17534 0.48301 -0.19288 0.48625 -0.20816 0.48902 C -0.22152 0.4948 -0.23611 0.49989 -0.24757 0.51099 C -0.24948 0.51283 -0.25052 0.51584 -0.25243 0.51746 C -0.25382 0.51885 -0.2559 0.51862 -0.25746 0.51954 C -0.25972 0.5207 -0.26198 0.52208 -0.26389 0.52393 C -0.2743 0.53411 -0.26371 0.52833 -0.27378 0.53272 C -0.2783 0.5496 -0.28281 0.55237 -0.29514 0.55677 C -0.31232 0.57226 -0.28611 0.54821 -0.30503 0.56763 C -0.31145 0.57434 -0.32031 0.57942 -0.32621 0.58729 C -0.3276 0.58914 -0.32795 0.59214 -0.32951 0.59376 C -0.33298 0.59746 -0.33732 0.59931 -0.34097 0.60255 C -0.34618 0.61272 -0.34444 0.61411 -0.35243 0.6222 C -0.3552 0.63283 -0.35885 0.64023 -0.36562 0.64625 C -0.36823 0.65711 -0.37395 0.66243 -0.38194 0.6659 C -0.38524 0.6689 -0.38802 0.67353 -0.39184 0.67468 C -0.39843 0.67677 -0.4026 0.67838 -0.40816 0.68347 C -0.41007 0.69087 -0.41145 0.69665 -0.41475 0.70312 C -0.41527 0.70682 -0.4158 0.71052 -0.41649 0.71399 C -0.41736 0.71838 -0.41979 0.72694 -0.41979 0.72694 C -0.42083 0.72486 -0.42291 0.72046 -0.42291 0.72046 E">
                                      <p:cBhvr>
                                        <p:cTn id="202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4745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116" name="Овал 14"/>
          <p:cNvSpPr/>
          <p:nvPr/>
        </p:nvSpPr>
        <p:spPr>
          <a:xfrm rot="338400">
            <a:off x="4785840" y="766800"/>
            <a:ext cx="1016280" cy="676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118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121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Группа 27"/>
          <p:cNvGrpSpPr/>
          <p:nvPr/>
        </p:nvGrpSpPr>
        <p:grpSpPr>
          <a:xfrm>
            <a:off x="6767640" y="4221000"/>
            <a:ext cx="2376360" cy="1224000"/>
            <a:chOff x="6767640" y="4221000"/>
            <a:chExt cx="2376360" cy="1224000"/>
          </a:xfrm>
        </p:grpSpPr>
        <p:pic>
          <p:nvPicPr>
            <p:cNvPr id="124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34364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Овал 19"/>
            <p:cNvSpPr/>
            <p:nvPr/>
          </p:nvSpPr>
          <p:spPr>
            <a:xfrm>
              <a:off x="676764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127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130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3.23699E-006 C 0.00138 -0.01826 -0.0007 -0.04462 0.00659 -0.06127 C 0.00781 -0.06381 0.01006 -0.0652 0.01145 -0.06774 C 0.01284 -0.07052 0.01336 -0.07376 0.01475 -0.07653 C 0.02083 -0.08786 0.03003 -0.09225 0.0394 -0.09618 C 0.04444 -0.09826 0.05416 -0.10266 0.05416 -0.10266 C 0.07187 -0.12069 0.10989 -0.11006 0.12621 -0.10936 C 0.13281 -0.10705 0.13663 -0.10474 0.1427 -0.10058 C 0.14722 -0.09757 0.15069 -0.0978 0.15572 -0.09618 C 0.16267 -0.09387 0.16857 -0.08832 0.17534 -0.08532 C 0.18802 -0.07491 0.20295 -0.06867 0.21475 -0.05688 C 0.21666 -0.05503 0.2177 -0.05202 0.21961 -0.0504 C 0.22361 -0.04693 0.22864 -0.04647 0.23281 -0.0437 C 0.23645 -0.04115 0.24427 -0.03468 0.24756 -0.03075 C 0.25624 -0.02035 0.26076 -0.01063 0.26718 0.00208 C 0.28333 0.03376 0.26631 0.00971 0.27864 0.02613 C 0.28107 0.03815 0.28333 0.05272 0.28854 0.06312 C 0.28975 0.0874 0.29392 0.10844 0.28038 0.12648 C 0.2776 0.14058 0.26874 0.14983 0.26232 0.16139 C 0.25399 0.17642 0.25173 0.19191 0.24756 0.20948 C 0.24808 0.22197 0.24826 0.23445 0.24913 0.24671 C 0.25121 0.27468 0.25086 0.23815 0.25086 0.25757 E">
                                      <p:cBhvr>
                                        <p:cTn id="212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4745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0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1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3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4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7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66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7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89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90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3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760" y="753840"/>
            <a:ext cx="1517760" cy="726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143" name="Овал 14"/>
          <p:cNvSpPr/>
          <p:nvPr/>
        </p:nvSpPr>
        <p:spPr>
          <a:xfrm rot="338400">
            <a:off x="4781160" y="888480"/>
            <a:ext cx="1015920" cy="554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Группа 24"/>
          <p:cNvGrpSpPr/>
          <p:nvPr/>
        </p:nvGrpSpPr>
        <p:grpSpPr>
          <a:xfrm>
            <a:off x="6732720" y="2492280"/>
            <a:ext cx="2411280" cy="1285920"/>
            <a:chOff x="6732720" y="2492280"/>
            <a:chExt cx="2411280" cy="1285920"/>
          </a:xfrm>
        </p:grpSpPr>
        <p:pic>
          <p:nvPicPr>
            <p:cNvPr id="145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9228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Овал 15"/>
            <p:cNvSpPr/>
            <p:nvPr/>
          </p:nvSpPr>
          <p:spPr>
            <a:xfrm>
              <a:off x="7956720" y="328464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148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Группа 27"/>
          <p:cNvGrpSpPr/>
          <p:nvPr/>
        </p:nvGrpSpPr>
        <p:grpSpPr>
          <a:xfrm>
            <a:off x="7020000" y="4221000"/>
            <a:ext cx="2376360" cy="1224000"/>
            <a:chOff x="7020000" y="4221000"/>
            <a:chExt cx="2376360" cy="1224000"/>
          </a:xfrm>
        </p:grpSpPr>
        <p:pic>
          <p:nvPicPr>
            <p:cNvPr id="151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9600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Овал 19"/>
            <p:cNvSpPr/>
            <p:nvPr/>
          </p:nvSpPr>
          <p:spPr>
            <a:xfrm>
              <a:off x="702000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154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157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38728E-006 C 0.0125 -0.01133 0.01389 -0.04115 0.02951 -0.04786 C 0.03854 -0.06034 0.04791 -0.06682 0.06059 -0.06982 C 0.07916 -0.0682 0.09114 -0.06589 0.10816 -0.06104 C 0.11354 -0.05641 0.11979 -0.05595 0.12465 -0.05017 C 0.13455 -0.03838 0.14062 -0.02566 0.14757 -0.01086 C 0.15104 -0.0037 0.15225 0.00393 0.15573 0.0111 C 0.16354 0.06521 0.15468 0.10336 0.13611 0.14636 C 0.13212 0.15561 0.13003 0.16232 0.12291 0.1681 C 0.1184 0.17989 0.10972 0.1889 0.10156 0.19653 C 0.09965 0.19838 0.09705 0.19885 0.09514 0.20093 C 0.08593 0.21087 0.08316 0.21989 0.07205 0.22497 C 0.06996 0.22706 0.06753 0.2289 0.06562 0.23145 C 0.06371 0.23399 0.06267 0.23792 0.06059 0.24023 C 0.0592 0.24162 0.05729 0.24139 0.05573 0.24232 C 0.05034 0.24532 0.04687 0.2481 0.04253 0.25341 C 0.03854 0.25827 0.03107 0.26867 0.03107 0.26867 C 0.03055 0.27168 0.0309 0.27515 0.02951 0.27746 C 0.02847 0.27931 0.02569 0.27769 0.02465 0.27954 C 0.01475 0.29526 0.02777 0.2874 0.01632 0.29272 C 0.01284 0.29734 0.00885 0.30197 0.00659 0.30798 C 0.00139 0.32185 0.0092 0.31307 1.94444E-006 0.32093 C -0.00295 0.32763 -0.00747 0.33341 -0.0099 0.34058 C -0.01111 0.34405 -0.01059 0.34821 -0.01146 0.35168 C -0.0132 0.35885 -0.0165 0.36717 -0.01962 0.37341 C -0.02084 0.38058 -0.02153 0.38798 -0.02292 0.39515 C -0.02379 0.39954 -0.02622 0.40833 -0.02622 0.40833 C -0.02761 0.42659 -0.03021 0.44532 -0.03438 0.46289 C -0.03611 0.48902 -0.03716 0.48648 -0.03438 0.51099 C -0.03334 0.52047 -0.02292 0.53503 -0.02292 0.53503 C -0.01962 0.54914 -0.00764 0.55977 1.94444E-006 0.56995 C 0.00885 0.58174 0.01389 0.59723 0.02291 0.60925 C 0.02534 0.61804 0.03611 0.63099 0.03611 0.63099 C 0.0408 0.64347 0.04496 0.65457 0.04757 0.66821 C 0.04705 0.67838 0.04757 0.68879 0.04583 0.69873 C 0.04427 0.70821 0.02951 0.71838 0.02951 0.71838 C 0.02326 0.73087 0.0158 0.73873 0.00486 0.74243 C -0.004 0.75029 -0.01302 0.75122 -0.02292 0.75538 C -0.02466 0.75677 -0.02795 0.757 -0.02795 0.75977 C -0.02795 0.76463 -0.02344 0.76417 -0.02136 0.76417 E">
                                      <p:cBhvr>
                                        <p:cTn id="314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4745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1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22" dur="1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3" dur="1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5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6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6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7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68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69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0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1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92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93960" y="447480"/>
            <a:ext cx="1369800" cy="726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170" name="Овал 14"/>
          <p:cNvSpPr/>
          <p:nvPr/>
        </p:nvSpPr>
        <p:spPr>
          <a:xfrm rot="338400">
            <a:off x="4804920" y="617040"/>
            <a:ext cx="1015920" cy="573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7+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172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Группа 29"/>
          <p:cNvGrpSpPr/>
          <p:nvPr/>
        </p:nvGrpSpPr>
        <p:grpSpPr>
          <a:xfrm>
            <a:off x="1763640" y="3789360"/>
            <a:ext cx="1368360" cy="1368360"/>
            <a:chOff x="1763640" y="3789360"/>
            <a:chExt cx="1368360" cy="1368360"/>
          </a:xfrm>
        </p:grpSpPr>
        <p:pic>
          <p:nvPicPr>
            <p:cNvPr id="175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763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Овал 17"/>
            <p:cNvSpPr/>
            <p:nvPr/>
          </p:nvSpPr>
          <p:spPr>
            <a:xfrm>
              <a:off x="1763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Группа 27"/>
          <p:cNvGrpSpPr/>
          <p:nvPr/>
        </p:nvGrpSpPr>
        <p:grpSpPr>
          <a:xfrm>
            <a:off x="7093080" y="4292640"/>
            <a:ext cx="2376360" cy="1224000"/>
            <a:chOff x="7093080" y="4292640"/>
            <a:chExt cx="2376360" cy="1224000"/>
          </a:xfrm>
        </p:grpSpPr>
        <p:pic>
          <p:nvPicPr>
            <p:cNvPr id="178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66908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Овал 19"/>
            <p:cNvSpPr/>
            <p:nvPr/>
          </p:nvSpPr>
          <p:spPr>
            <a:xfrm>
              <a:off x="709308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Группа 26"/>
          <p:cNvGrpSpPr/>
          <p:nvPr/>
        </p:nvGrpSpPr>
        <p:grpSpPr>
          <a:xfrm>
            <a:off x="3564000" y="5445000"/>
            <a:ext cx="2709720" cy="1584360"/>
            <a:chOff x="3564000" y="5445000"/>
            <a:chExt cx="2709720" cy="1584360"/>
          </a:xfrm>
        </p:grpSpPr>
        <p:pic>
          <p:nvPicPr>
            <p:cNvPr id="181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98920" y="5445000"/>
              <a:ext cx="177480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Овал 20"/>
            <p:cNvSpPr/>
            <p:nvPr/>
          </p:nvSpPr>
          <p:spPr>
            <a:xfrm>
              <a:off x="3564000" y="602136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184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32"/>
          <p:cNvSpPr/>
          <p:nvPr/>
        </p:nvSpPr>
        <p:spPr>
          <a:xfrm>
            <a:off x="7387920" y="234936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142 0.13827 C 0.1309 0.1341 0.13021 0.12208 0.12812 0.11653 C 0.12448 0.10682 0.11944 0.10474 0.11337 0.09896 C 0.11146 0.09711 0.11041 0.09434 0.1085 0.09249 C 0.09843 0.08301 0.08767 0.07931 0.07569 0.07723 C 0.0533 0.07838 0.03871 0.08 0.01823 0.0837 C 0.00937 0.08786 -0.00018 0.08879 -0.00955 0.0904 C -0.03785 0.10243 -0.0658 0.11792 -0.0915 0.13827 C -0.09861 0.14405 -0.10573 0.15006 -0.11285 0.15584 C -0.11545 0.15792 -0.11702 0.16208 -0.11945 0.16462 C -0.12188 0.16717 -0.12483 0.16902 -0.12761 0.1711 C -0.13681 0.18913 -0.15243 0.19884 -0.16198 0.21688 C -0.16545 0.22335 -0.16858 0.23006 -0.17188 0.23653 C -0.17292 0.23884 -0.17518 0.24324 -0.17518 0.24347 C -0.17882 0.26312 -0.17413 0.24139 -0.18004 0.2585 C -0.1908 0.28925 -0.18229 0.27145 -0.18993 0.28671 C -0.19445 0.30775 -0.19688 0.32093 -0.19809 0.34358 C -0.19775 0.35607 -0.19288 0.41988 -0.19653 0.43954 C -0.1974 0.44393 -0.21094 0.4548 -0.21129 0.45503 C -0.21459 0.45642 -0.22101 0.45919 -0.22101 0.45942 C -0.23091 0.46798 -0.23403 0.46936 -0.24566 0.47237 C -0.25417 0.48069 -0.25868 0.47884 -0.26702 0.48555 C -0.28091 0.49688 -0.2717 0.49225 -0.28177 0.49642 C -0.28334 0.4978 -0.28525 0.49896 -0.28663 0.50081 C -0.28802 0.50266 -0.28993 0.50728 -0.28993 0.50751 E">
                                      <p:cBhvr>
                                        <p:cTn id="416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4745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3" dur="1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24" dur="1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25" dur="1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2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443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6" dur="1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47" dur="1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48" dur="1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1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1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70" dur="1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1" dur="1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4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93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94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760" y="753840"/>
            <a:ext cx="1517760" cy="726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197" name="Овал 14"/>
          <p:cNvSpPr/>
          <p:nvPr/>
        </p:nvSpPr>
        <p:spPr>
          <a:xfrm rot="338400">
            <a:off x="4781160" y="888480"/>
            <a:ext cx="1015920" cy="554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Группа 24"/>
          <p:cNvGrpSpPr/>
          <p:nvPr/>
        </p:nvGrpSpPr>
        <p:grpSpPr>
          <a:xfrm>
            <a:off x="6732720" y="2492280"/>
            <a:ext cx="2411280" cy="1285920"/>
            <a:chOff x="6732720" y="2492280"/>
            <a:chExt cx="2411280" cy="1285920"/>
          </a:xfrm>
        </p:grpSpPr>
        <p:pic>
          <p:nvPicPr>
            <p:cNvPr id="199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9228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Овал 15"/>
            <p:cNvSpPr/>
            <p:nvPr/>
          </p:nvSpPr>
          <p:spPr>
            <a:xfrm>
              <a:off x="7956720" y="328464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202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Группа 27"/>
          <p:cNvGrpSpPr/>
          <p:nvPr/>
        </p:nvGrpSpPr>
        <p:grpSpPr>
          <a:xfrm>
            <a:off x="7020000" y="4221000"/>
            <a:ext cx="2376360" cy="1224000"/>
            <a:chOff x="7020000" y="4221000"/>
            <a:chExt cx="2376360" cy="1224000"/>
          </a:xfrm>
        </p:grpSpPr>
        <p:pic>
          <p:nvPicPr>
            <p:cNvPr id="205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9600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Овал 19"/>
            <p:cNvSpPr/>
            <p:nvPr/>
          </p:nvSpPr>
          <p:spPr>
            <a:xfrm>
              <a:off x="702000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208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211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1" dur="indefinite" restart="never" nodeType="tmRoot">
          <p:childTnLst>
            <p:seq>
              <p:cTn id="512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38728E-006 C 0.0125 -0.01133 0.01389 -0.04115 0.02951 -0.04786 C 0.03854 -0.06034 0.04791 -0.06682 0.06059 -0.06982 C 0.07916 -0.0682 0.09114 -0.06589 0.10816 -0.06104 C 0.11354 -0.05641 0.11979 -0.05595 0.12465 -0.05017 C 0.13455 -0.03838 0.14062 -0.02566 0.14757 -0.01086 C 0.15104 -0.0037 0.15225 0.00393 0.15573 0.0111 C 0.16354 0.06521 0.15468 0.10336 0.13611 0.14636 C 0.13212 0.15561 0.13003 0.16232 0.12291 0.1681 C 0.1184 0.17989 0.10972 0.1889 0.10156 0.19653 C 0.09965 0.19838 0.09705 0.19885 0.09514 0.20093 C 0.08593 0.21087 0.08316 0.21989 0.07205 0.22497 C 0.06996 0.22706 0.06753 0.2289 0.06562 0.23145 C 0.06371 0.23399 0.06267 0.23792 0.06059 0.24023 C 0.0592 0.24162 0.05729 0.24139 0.05573 0.24232 C 0.05034 0.24532 0.04687 0.2481 0.04253 0.25341 C 0.03854 0.25827 0.03107 0.26867 0.03107 0.26867 C 0.03055 0.27168 0.0309 0.27515 0.02951 0.27746 C 0.02847 0.27931 0.02569 0.27769 0.02465 0.27954 C 0.01475 0.29526 0.02777 0.2874 0.01632 0.29272 C 0.01284 0.29734 0.00885 0.30197 0.00659 0.30798 C 0.00139 0.32185 0.0092 0.31307 1.94444E-006 0.32093 C -0.00295 0.32763 -0.00747 0.33341 -0.0099 0.34058 C -0.01111 0.34405 -0.01059 0.34821 -0.01146 0.35168 C -0.0132 0.35885 -0.0165 0.36717 -0.01962 0.37341 C -0.02084 0.38058 -0.02153 0.38798 -0.02292 0.39515 C -0.02379 0.39954 -0.02622 0.40833 -0.02622 0.40833 C -0.02761 0.42659 -0.03021 0.44532 -0.03438 0.46289 C -0.03611 0.48902 -0.03716 0.48648 -0.03438 0.51099 C -0.03334 0.52047 -0.02292 0.53503 -0.02292 0.53503 C -0.01962 0.54914 -0.00764 0.55977 1.94444E-006 0.56995 C 0.00885 0.58174 0.01389 0.59723 0.02291 0.60925 C 0.02534 0.61804 0.03611 0.63099 0.03611 0.63099 C 0.0408 0.64347 0.04496 0.65457 0.04757 0.66821 C 0.04705 0.67838 0.04757 0.68879 0.04583 0.69873 C 0.04427 0.70821 0.02951 0.71838 0.02951 0.71838 C 0.02326 0.73087 0.0158 0.73873 0.00486 0.74243 C -0.004 0.75029 -0.01302 0.75122 -0.02292 0.75538 C -0.02466 0.75677 -0.02795 0.757 -0.02795 0.75977 C -0.02795 0.76463 -0.02344 0.76417 -0.02136 0.76417 E">
                                      <p:cBhvr>
                                        <p:cTn id="518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0" dur="4745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522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5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26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27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1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49" dur="1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0" dur="1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3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568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1" dur="1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72" dur="1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3" dur="1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6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0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591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1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95" dur="1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6" dur="1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9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224" name="Овал 14"/>
          <p:cNvSpPr/>
          <p:nvPr/>
        </p:nvSpPr>
        <p:spPr>
          <a:xfrm rot="338400">
            <a:off x="4782600" y="844200"/>
            <a:ext cx="1016280" cy="598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8+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Группа 24"/>
          <p:cNvGrpSpPr/>
          <p:nvPr/>
        </p:nvGrpSpPr>
        <p:grpSpPr>
          <a:xfrm>
            <a:off x="6732720" y="2421000"/>
            <a:ext cx="2411280" cy="1285920"/>
            <a:chOff x="6732720" y="2421000"/>
            <a:chExt cx="2411280" cy="1285920"/>
          </a:xfrm>
        </p:grpSpPr>
        <p:pic>
          <p:nvPicPr>
            <p:cNvPr id="226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2100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Овал 15"/>
            <p:cNvSpPr/>
            <p:nvPr/>
          </p:nvSpPr>
          <p:spPr>
            <a:xfrm>
              <a:off x="7956720" y="321336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229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232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235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Группа 28"/>
          <p:cNvGrpSpPr/>
          <p:nvPr/>
        </p:nvGrpSpPr>
        <p:grpSpPr>
          <a:xfrm>
            <a:off x="0" y="5772240"/>
            <a:ext cx="1908000" cy="1085760"/>
            <a:chOff x="0" y="5772240"/>
            <a:chExt cx="1908000" cy="1085760"/>
          </a:xfrm>
        </p:grpSpPr>
        <p:pic>
          <p:nvPicPr>
            <p:cNvPr id="238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77224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Овал 21"/>
            <p:cNvSpPr/>
            <p:nvPr/>
          </p:nvSpPr>
          <p:spPr>
            <a:xfrm>
              <a:off x="0" y="627552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33"/>
          <p:cNvSpPr/>
          <p:nvPr/>
        </p:nvSpPr>
        <p:spPr>
          <a:xfrm>
            <a:off x="1332000" y="321300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3" dur="indefinite" restart="never" nodeType="tmRoot">
          <p:childTnLst>
            <p:seq>
              <p:cTn id="614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615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1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19" dur="1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20" dur="1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3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7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638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1" dur="1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42" dur="1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43" dur="1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6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0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661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4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65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66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9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3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684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7" dur="1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88" dur="1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89" dur="1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6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707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6185E-006 C 0.004 -0.01572 0.00122 -0.00925 0.00643 -0.01965 C 0.01007 -0.03537 0.00677 -0.03029 0.01459 -0.03722 C 0.02709 -0.05896 0.0342 -0.06034 0.05382 -0.06335 C 0.06164 -0.06266 0.06945 -0.06266 0.07691 -0.06104 C 0.0849 -0.05942 0.08941 -0.04948 0.09497 -0.0437 C 0.09844 -0.04023 0.10243 -0.03884 0.10643 -0.03722 C 0.11007 -0.03399 0.11493 -0.0326 0.11806 -0.02844 C 0.12431 -0.02011 0.12552 -0.00231 0.13108 0.00879 C 0.13247 0.05596 0.13664 0.11099 0.11962 0.15492 C 0.11771 0.16463 0.11545 0.17272 0.11146 0.18127 C 0.10782 0.19931 0.09271 0.21179 0.08195 0.22266 C 0.07674 0.22798 0.07223 0.23468 0.06719 0.24023 C 0.06042 0.24786 0.05434 0.2585 0.04584 0.26197 C 0.03473 0.27353 0.02101 0.28555 0.01302 0.30127 C 0.01007 0.3126 0.00747 0.31052 0.00973 0.32301 C 0.00695 0.34497 0.00695 0.35099 -4.16667E-006 0.36902 C -0.00191 0.37364 -0.00034 0.38081 -0.00347 0.38428 C -0.01059 0.39307 -0.02222 0.39492 -0.03125 0.39746 C -0.03941 0.40255 -0.04739 0.40231 -0.0559 0.40601 C -0.06718 0.41596 -0.05382 0.40532 -0.06718 0.41272 C -0.07656 0.41781 -0.08385 0.42451 -0.0934 0.42798 C -0.10711 0.44 -0.12239 0.45087 -0.13767 0.4585 C -0.15069 0.46497 -0.13854 0.45989 -0.14913 0.46937 C -0.1526 0.47237 -0.15677 0.47399 -0.16076 0.47584 C -0.17534 0.48301 -0.19288 0.48625 -0.20816 0.48902 C -0.22152 0.4948 -0.23611 0.49989 -0.24757 0.51099 C -0.24948 0.51283 -0.25052 0.51584 -0.25243 0.51746 C -0.25382 0.51885 -0.2559 0.51862 -0.25746 0.51954 C -0.25972 0.5207 -0.26198 0.52208 -0.26389 0.52393 C -0.2743 0.53411 -0.26371 0.52833 -0.27378 0.53272 C -0.2783 0.5496 -0.28281 0.55237 -0.29514 0.55677 C -0.31232 0.57226 -0.28611 0.54821 -0.30503 0.56763 C -0.31145 0.57434 -0.32031 0.57942 -0.32621 0.58729 C -0.3276 0.58914 -0.32795 0.59214 -0.32951 0.59376 C -0.33298 0.59746 -0.33732 0.59931 -0.34097 0.60255 C -0.34618 0.61272 -0.34444 0.61411 -0.35243 0.6222 C -0.3552 0.63283 -0.35885 0.64023 -0.36562 0.64625 C -0.36823 0.65711 -0.37395 0.66243 -0.38194 0.6659 C -0.38524 0.6689 -0.38802 0.67353 -0.39184 0.67468 C -0.39843 0.67677 -0.4026 0.67838 -0.40816 0.68347 C -0.41007 0.69087 -0.41145 0.69665 -0.41475 0.70312 C -0.41527 0.70682 -0.4158 0.71052 -0.41649 0.71399 C -0.41736 0.71838 -0.41979 0.72694 -0.41979 0.72694 C -0.42083 0.72486 -0.42291 0.72046 -0.42291 0.72046 E">
                                      <p:cBhvr>
                                        <p:cTn id="712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4" dur="4745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760" y="753840"/>
            <a:ext cx="1517760" cy="7268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251" name="Овал 14"/>
          <p:cNvSpPr/>
          <p:nvPr/>
        </p:nvSpPr>
        <p:spPr>
          <a:xfrm rot="338400">
            <a:off x="4781160" y="888480"/>
            <a:ext cx="1015920" cy="554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7+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Группа 24"/>
          <p:cNvGrpSpPr/>
          <p:nvPr/>
        </p:nvGrpSpPr>
        <p:grpSpPr>
          <a:xfrm>
            <a:off x="6732720" y="2492280"/>
            <a:ext cx="2411280" cy="1285920"/>
            <a:chOff x="6732720" y="2492280"/>
            <a:chExt cx="2411280" cy="1285920"/>
          </a:xfrm>
        </p:grpSpPr>
        <p:pic>
          <p:nvPicPr>
            <p:cNvPr id="253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9228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Овал 15"/>
            <p:cNvSpPr/>
            <p:nvPr/>
          </p:nvSpPr>
          <p:spPr>
            <a:xfrm>
              <a:off x="7956720" y="328464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256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Группа 27"/>
          <p:cNvGrpSpPr/>
          <p:nvPr/>
        </p:nvGrpSpPr>
        <p:grpSpPr>
          <a:xfrm>
            <a:off x="7020000" y="4221000"/>
            <a:ext cx="2376360" cy="1224000"/>
            <a:chOff x="7020000" y="4221000"/>
            <a:chExt cx="2376360" cy="1224000"/>
          </a:xfrm>
        </p:grpSpPr>
        <p:pic>
          <p:nvPicPr>
            <p:cNvPr id="259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9600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Овал 19"/>
            <p:cNvSpPr/>
            <p:nvPr/>
          </p:nvSpPr>
          <p:spPr>
            <a:xfrm>
              <a:off x="702000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262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265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5" dur="indefinite" restart="never" nodeType="tmRoot">
          <p:childTnLst>
            <p:seq>
              <p:cTn id="716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717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38728E-006 C 0.0125 -0.01133 0.01389 -0.04115 0.02951 -0.04786 C 0.03854 -0.06034 0.04791 -0.06682 0.06059 -0.06982 C 0.07916 -0.0682 0.09114 -0.06589 0.10816 -0.06104 C 0.11354 -0.05641 0.11979 -0.05595 0.12465 -0.05017 C 0.13455 -0.03838 0.14062 -0.02566 0.14757 -0.01086 C 0.15104 -0.0037 0.15225 0.00393 0.15573 0.0111 C 0.16354 0.06521 0.15468 0.10336 0.13611 0.14636 C 0.13212 0.15561 0.13003 0.16232 0.12291 0.1681 C 0.1184 0.17989 0.10972 0.1889 0.10156 0.19653 C 0.09965 0.19838 0.09705 0.19885 0.09514 0.20093 C 0.08593 0.21087 0.08316 0.21989 0.07205 0.22497 C 0.06996 0.22706 0.06753 0.2289 0.06562 0.23145 C 0.06371 0.23399 0.06267 0.23792 0.06059 0.24023 C 0.0592 0.24162 0.05729 0.24139 0.05573 0.24232 C 0.05034 0.24532 0.04687 0.2481 0.04253 0.25341 C 0.03854 0.25827 0.03107 0.26867 0.03107 0.26867 C 0.03055 0.27168 0.0309 0.27515 0.02951 0.27746 C 0.02847 0.27931 0.02569 0.27769 0.02465 0.27954 C 0.01475 0.29526 0.02777 0.2874 0.01632 0.29272 C 0.01284 0.29734 0.00885 0.30197 0.00659 0.30798 C 0.00139 0.32185 0.0092 0.31307 1.94444E-006 0.32093 C -0.00295 0.32763 -0.00747 0.33341 -0.0099 0.34058 C -0.01111 0.34405 -0.01059 0.34821 -0.01146 0.35168 C -0.0132 0.35885 -0.0165 0.36717 -0.01962 0.37341 C -0.02084 0.38058 -0.02153 0.38798 -0.02292 0.39515 C -0.02379 0.39954 -0.02622 0.40833 -0.02622 0.40833 C -0.02761 0.42659 -0.03021 0.44532 -0.03438 0.46289 C -0.03611 0.48902 -0.03716 0.48648 -0.03438 0.51099 C -0.03334 0.52047 -0.02292 0.53503 -0.02292 0.53503 C -0.01962 0.54914 -0.00764 0.55977 1.94444E-006 0.56995 C 0.00885 0.58174 0.01389 0.59723 0.02291 0.60925 C 0.02534 0.61804 0.03611 0.63099 0.03611 0.63099 C 0.0408 0.64347 0.04496 0.65457 0.04757 0.66821 C 0.04705 0.67838 0.04757 0.68879 0.04583 0.69873 C 0.04427 0.70821 0.02951 0.71838 0.02951 0.71838 C 0.02326 0.73087 0.0158 0.73873 0.00486 0.74243 C -0.004 0.75029 -0.01302 0.75122 -0.02292 0.75538 C -0.02466 0.75677 -0.02795 0.757 -0.02795 0.75977 C -0.02795 0.76463 -0.02344 0.76417 -0.02136 0.76417 E">
                                      <p:cBhvr>
                                        <p:cTn id="722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4" dur="4745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5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726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9" dur="1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30" dur="1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31" dur="1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74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4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8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749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2" dur="1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53" dur="1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54" dur="1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7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1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772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5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76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77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0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4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795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8" dur="1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99" dur="1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00" dur="1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000"/>
                            </p:stCondLst>
                            <p:childTnLst>
                              <p:par>
                                <p:cTn id="81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3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0:05:02Z</dcterms:created>
  <dc:creator>user</dc:creator>
  <dc:description/>
  <dc:language>en-US</dc:language>
  <cp:lastModifiedBy>Юрий</cp:lastModifiedBy>
  <dcterms:modified xsi:type="dcterms:W3CDTF">2011-04-02T08:13:59Z</dcterms:modified>
  <cp:revision>64</cp:revision>
  <dc:subject/>
  <dc:title>Слайд 1</dc:title>
</cp:coreProperties>
</file>